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A4D33-89C5-43B7-A90F-6E892A349C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FB5DC-7AA3-4FA0-8C89-DB886C7F2E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1DE0B-93F5-4465-B93B-6E714B5025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60F7E-86C5-456B-BC49-88050C1C7A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CD66B-9B98-4142-895A-F7E027F0AF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756B0-5B71-4B5C-A933-22E628BAD4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CE861-6C2E-4129-89C9-53AC1A6B2F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915C8-7F21-46D7-B169-9B4E97D6E7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671CA-0F47-4283-BD51-08C98FF874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EBBF7-DAFF-4377-AA3A-76CED564F0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72C4D-8087-4A1C-ADD3-609179FAB6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DD6A8-8BF3-44D5-995C-17B9F579A5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5638680" y="6553080"/>
            <a:ext cx="335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Ingenieurbüro Dr. Kahlert  2004      </a:t>
            </a:r>
            <a:fld id="{62BC2439-DFB4-4CD7-B77D-4F4ECA59FDC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2057400" cy="6858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 rot="16200000">
            <a:off x="-1638720" y="2628720"/>
            <a:ext cx="518184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8000" spc="-1" strike="noStrike">
                <a:solidFill>
                  <a:srgbClr val="ffcc00"/>
                </a:solidFill>
                <a:latin typeface="Arial"/>
              </a:rPr>
              <a:t>WinFACT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4191120" y="228600"/>
            <a:ext cx="220968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 - PL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612800" y="838080"/>
            <a:ext cx="7149960" cy="5705280"/>
            <a:chOff x="1612800" y="838080"/>
            <a:chExt cx="7149960" cy="570528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1612800" y="838080"/>
              <a:ext cx="7149960" cy="406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515400" y="2912760"/>
              <a:ext cx="5099760" cy="363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02CA5-CD6C-4724-9CD5-A777156D3CCB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3047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04920" y="939960"/>
            <a:ext cx="6476760" cy="2895480"/>
            <a:chOff x="304920" y="939960"/>
            <a:chExt cx="6476760" cy="2895480"/>
          </a:xfrm>
        </p:grpSpPr>
        <p:sp>
          <p:nvSpPr>
            <p:cNvPr id="47" name=""/>
            <p:cNvSpPr/>
            <p:nvPr/>
          </p:nvSpPr>
          <p:spPr>
            <a:xfrm>
              <a:off x="533520" y="1168560"/>
              <a:ext cx="6248160" cy="2666880"/>
            </a:xfrm>
            <a:prstGeom prst="rect">
              <a:avLst/>
            </a:prstGeom>
            <a:solidFill>
              <a:srgbClr val="8fafbe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4920" y="939960"/>
              <a:ext cx="2819160" cy="3049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velopment environ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304920" y="4038480"/>
            <a:ext cx="6476760" cy="2133720"/>
            <a:chOff x="304920" y="4038480"/>
            <a:chExt cx="6476760" cy="2133720"/>
          </a:xfrm>
        </p:grpSpPr>
        <p:sp>
          <p:nvSpPr>
            <p:cNvPr id="50" name=""/>
            <p:cNvSpPr/>
            <p:nvPr/>
          </p:nvSpPr>
          <p:spPr>
            <a:xfrm>
              <a:off x="533520" y="4267080"/>
              <a:ext cx="6248160" cy="1905120"/>
            </a:xfrm>
            <a:prstGeom prst="rect">
              <a:avLst/>
            </a:prstGeom>
            <a:solidFill>
              <a:srgbClr val="8fafbe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4920" y="4038480"/>
              <a:ext cx="2819160" cy="3049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L (instruction lis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85800" y="1828440"/>
            <a:ext cx="4281120" cy="337320"/>
            <a:chOff x="685800" y="1828440"/>
            <a:chExt cx="4281120" cy="337320"/>
          </a:xfrm>
        </p:grpSpPr>
        <p:sp>
          <p:nvSpPr>
            <p:cNvPr id="53" name=""/>
            <p:cNvSpPr/>
            <p:nvPr/>
          </p:nvSpPr>
          <p:spPr>
            <a:xfrm>
              <a:off x="1154520" y="1828440"/>
              <a:ext cx="381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telligent automatic code comple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723600" y="1852560"/>
              <a:ext cx="228600" cy="30456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685800" y="2234880"/>
            <a:ext cx="1959120" cy="337320"/>
            <a:chOff x="685800" y="2234880"/>
            <a:chExt cx="1959120" cy="337320"/>
          </a:xfrm>
        </p:grpSpPr>
        <p:sp>
          <p:nvSpPr>
            <p:cNvPr id="56" name=""/>
            <p:cNvSpPr/>
            <p:nvPr/>
          </p:nvSpPr>
          <p:spPr>
            <a:xfrm>
              <a:off x="1147320" y="2234880"/>
              <a:ext cx="149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ast compil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5400000">
              <a:off x="723600" y="2259000"/>
              <a:ext cx="228600" cy="30456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685800" y="2641680"/>
            <a:ext cx="5451840" cy="580680"/>
            <a:chOff x="685800" y="2641680"/>
            <a:chExt cx="5451840" cy="580680"/>
          </a:xfrm>
        </p:grpSpPr>
        <p:sp>
          <p:nvSpPr>
            <p:cNvPr id="59" name=""/>
            <p:cNvSpPr/>
            <p:nvPr/>
          </p:nvSpPr>
          <p:spPr>
            <a:xfrm>
              <a:off x="1154880" y="2641680"/>
              <a:ext cx="4982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bugging options like breakpoints, evaluation o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ariables and detecting of memory chan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rot="5400000">
              <a:off x="723600" y="2787480"/>
              <a:ext cx="228600" cy="30456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85800" y="3301560"/>
            <a:ext cx="2162160" cy="337320"/>
            <a:chOff x="685800" y="3301560"/>
            <a:chExt cx="2162160" cy="337320"/>
          </a:xfrm>
        </p:grpSpPr>
        <p:sp>
          <p:nvSpPr>
            <p:cNvPr id="62" name=""/>
            <p:cNvSpPr/>
            <p:nvPr/>
          </p:nvSpPr>
          <p:spPr>
            <a:xfrm>
              <a:off x="1147680" y="3301560"/>
              <a:ext cx="1700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aving of view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5400000">
              <a:off x="723600" y="3325680"/>
              <a:ext cx="228600" cy="30456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685800" y="4495320"/>
            <a:ext cx="4326840" cy="337320"/>
            <a:chOff x="685800" y="4495320"/>
            <a:chExt cx="4326840" cy="337320"/>
          </a:xfrm>
        </p:grpSpPr>
        <p:sp>
          <p:nvSpPr>
            <p:cNvPr id="65" name=""/>
            <p:cNvSpPr/>
            <p:nvPr/>
          </p:nvSpPr>
          <p:spPr>
            <a:xfrm>
              <a:off x="1151280" y="4495320"/>
              <a:ext cx="386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structions according to IEC 61131-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5400000">
              <a:off x="723600" y="4519440"/>
              <a:ext cx="228600" cy="30456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685800" y="4876560"/>
            <a:ext cx="2760840" cy="337320"/>
            <a:chOff x="685800" y="4876560"/>
            <a:chExt cx="2760840" cy="337320"/>
          </a:xfrm>
        </p:grpSpPr>
        <p:sp>
          <p:nvSpPr>
            <p:cNvPr id="68" name=""/>
            <p:cNvSpPr/>
            <p:nvPr/>
          </p:nvSpPr>
          <p:spPr>
            <a:xfrm>
              <a:off x="1150560" y="4876560"/>
              <a:ext cx="22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mplicitly type cas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5400000">
              <a:off x="723600" y="4900680"/>
              <a:ext cx="228600" cy="30456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685800" y="5257440"/>
            <a:ext cx="3073320" cy="337320"/>
            <a:chOff x="685800" y="5257440"/>
            <a:chExt cx="3073320" cy="337320"/>
          </a:xfrm>
        </p:grpSpPr>
        <p:sp>
          <p:nvSpPr>
            <p:cNvPr id="71" name=""/>
            <p:cNvSpPr/>
            <p:nvPr/>
          </p:nvSpPr>
          <p:spPr>
            <a:xfrm>
              <a:off x="1149120" y="5257440"/>
              <a:ext cx="26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andard function block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rot="5400000">
              <a:off x="723600" y="5281560"/>
              <a:ext cx="228600" cy="30456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685800" y="5638320"/>
            <a:ext cx="4245840" cy="337320"/>
            <a:chOff x="685800" y="5638320"/>
            <a:chExt cx="4245840" cy="337320"/>
          </a:xfrm>
        </p:grpSpPr>
        <p:sp>
          <p:nvSpPr>
            <p:cNvPr id="74" name=""/>
            <p:cNvSpPr/>
            <p:nvPr/>
          </p:nvSpPr>
          <p:spPr>
            <a:xfrm>
              <a:off x="1151280" y="5638320"/>
              <a:ext cx="378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xception and error handling op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rot="5400000">
              <a:off x="723600" y="5662440"/>
              <a:ext cx="228600" cy="30456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685440" y="1447560"/>
            <a:ext cx="2521440" cy="337320"/>
            <a:chOff x="685440" y="1447560"/>
            <a:chExt cx="2521440" cy="337320"/>
          </a:xfrm>
        </p:grpSpPr>
        <p:sp>
          <p:nvSpPr>
            <p:cNvPr id="77" name=""/>
            <p:cNvSpPr/>
            <p:nvPr/>
          </p:nvSpPr>
          <p:spPr>
            <a:xfrm>
              <a:off x="1148760" y="1447560"/>
              <a:ext cx="205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yntax highligh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5400000">
              <a:off x="723600" y="1471680"/>
              <a:ext cx="228600" cy="30492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388B2-476B-4DA3-AE67-AFFA96A89C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6" presetSubtype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950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65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0"/>
                            </p:stCondLst>
                            <p:childTnLst>
                              <p:par>
                                <p:cTn id="41" nodeType="afterEffect" fill="hold" presetClass="entr" presetID="16" presetSubtype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25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60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95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30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380988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ment environ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7162920" cy="57214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257800" y="5105520"/>
            <a:ext cx="2666880" cy="609480"/>
          </a:xfrm>
          <a:prstGeom prst="wedgeRoundRectCallout">
            <a:avLst>
              <a:gd name="adj1" fmla="val -152620"/>
              <a:gd name="adj2" fmla="val -523439"/>
              <a:gd name="adj3" fmla="val 16667"/>
            </a:avLst>
          </a:prstGeom>
          <a:solidFill>
            <a:srgbClr val="8faf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itor with syntax highligh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2057400" y="2286000"/>
            <a:ext cx="4027320" cy="3124080"/>
            <a:chOff x="2057400" y="2286000"/>
            <a:chExt cx="4027320" cy="3124080"/>
          </a:xfrm>
        </p:grpSpPr>
        <p:pic>
          <p:nvPicPr>
            <p:cNvPr id="83" name="" descr=""/>
            <p:cNvPicPr/>
            <p:nvPr/>
          </p:nvPicPr>
          <p:blipFill>
            <a:blip r:embed="rId2"/>
            <a:stretch/>
          </p:blipFill>
          <p:spPr>
            <a:xfrm>
              <a:off x="2057400" y="3505320"/>
              <a:ext cx="1141560" cy="19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3657600" y="2286000"/>
              <a:ext cx="2427120" cy="457200"/>
            </a:xfrm>
            <a:prstGeom prst="wedgeRoundRectCallout">
              <a:avLst>
                <a:gd name="adj1" fmla="val -88981"/>
                <a:gd name="adj2" fmla="val 215972"/>
                <a:gd name="adj3" fmla="val 16667"/>
              </a:avLst>
            </a:prstGeom>
            <a:solidFill>
              <a:srgbClr val="8fafb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utomatic code comple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2590920" y="685080"/>
            <a:ext cx="4647960" cy="762840"/>
            <a:chOff x="2590920" y="685080"/>
            <a:chExt cx="4647960" cy="762840"/>
          </a:xfrm>
        </p:grpSpPr>
        <p:sp>
          <p:nvSpPr>
            <p:cNvPr id="86" name=""/>
            <p:cNvSpPr/>
            <p:nvPr/>
          </p:nvSpPr>
          <p:spPr>
            <a:xfrm>
              <a:off x="2590920" y="1219320"/>
              <a:ext cx="914400" cy="228600"/>
            </a:xfrm>
            <a:prstGeom prst="roundRect">
              <a:avLst>
                <a:gd name="adj" fmla="val 16667"/>
              </a:avLst>
            </a:prstGeom>
            <a:noFill/>
            <a:ln w="22320">
              <a:solidFill>
                <a:srgbClr val="8faf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05320" y="685080"/>
              <a:ext cx="3733560" cy="230040"/>
            </a:xfrm>
            <a:prstGeom prst="wedgeRoundRectCallout">
              <a:avLst>
                <a:gd name="adj1" fmla="val -63092"/>
                <a:gd name="adj2" fmla="val 175310"/>
                <a:gd name="adj3" fmla="val 16667"/>
              </a:avLst>
            </a:prstGeom>
            <a:solidFill>
              <a:srgbClr val="8fafb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uttons for the debugging mode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4038480" y="533520"/>
            <a:ext cx="4572000" cy="914400"/>
            <a:chOff x="4038480" y="533520"/>
            <a:chExt cx="4572000" cy="914400"/>
          </a:xfrm>
        </p:grpSpPr>
        <p:sp>
          <p:nvSpPr>
            <p:cNvPr id="89" name=""/>
            <p:cNvSpPr/>
            <p:nvPr/>
          </p:nvSpPr>
          <p:spPr>
            <a:xfrm>
              <a:off x="4572000" y="533520"/>
              <a:ext cx="4038480" cy="457200"/>
            </a:xfrm>
            <a:prstGeom prst="wedgeRoundRectCallout">
              <a:avLst>
                <a:gd name="adj1" fmla="val -55819"/>
                <a:gd name="adj2" fmla="val 96527"/>
                <a:gd name="adj3" fmla="val 16667"/>
              </a:avLst>
            </a:prstGeom>
            <a:solidFill>
              <a:srgbClr val="8fafb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nd the quick displaying and hiding of further windows like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038480" y="1219320"/>
              <a:ext cx="685800" cy="228600"/>
            </a:xfrm>
            <a:prstGeom prst="roundRect">
              <a:avLst>
                <a:gd name="adj" fmla="val 16667"/>
              </a:avLst>
            </a:prstGeom>
            <a:noFill/>
            <a:ln w="22320">
              <a:solidFill>
                <a:srgbClr val="8faf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685800" y="1219320"/>
            <a:ext cx="8381880" cy="4419360"/>
            <a:chOff x="685800" y="1219320"/>
            <a:chExt cx="8381880" cy="4419360"/>
          </a:xfrm>
        </p:grpSpPr>
        <p:grpSp>
          <p:nvGrpSpPr>
            <p:cNvPr id="92" name=""/>
            <p:cNvGrpSpPr/>
            <p:nvPr/>
          </p:nvGrpSpPr>
          <p:grpSpPr>
            <a:xfrm>
              <a:off x="685800" y="1219320"/>
              <a:ext cx="4038480" cy="3657600"/>
              <a:chOff x="685800" y="1219320"/>
              <a:chExt cx="4038480" cy="3657600"/>
            </a:xfrm>
          </p:grpSpPr>
          <p:grpSp>
            <p:nvGrpSpPr>
              <p:cNvPr id="93" name=""/>
              <p:cNvGrpSpPr/>
              <p:nvPr/>
            </p:nvGrpSpPr>
            <p:grpSpPr>
              <a:xfrm>
                <a:off x="685800" y="1219320"/>
                <a:ext cx="4038480" cy="3657600"/>
                <a:chOff x="685800" y="1219320"/>
                <a:chExt cx="4038480" cy="365760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4038480" y="1219320"/>
                  <a:ext cx="685800" cy="228600"/>
                </a:xfrm>
                <a:prstGeom prst="roundRect">
                  <a:avLst>
                    <a:gd name="adj" fmla="val 16667"/>
                  </a:avLst>
                </a:prstGeom>
                <a:noFill/>
                <a:ln w="22320">
                  <a:solidFill>
                    <a:srgbClr val="8faf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685800" y="1752480"/>
                  <a:ext cx="2743200" cy="3124440"/>
                </a:xfrm>
                <a:prstGeom prst="wedgeRoundRectCallout">
                  <a:avLst>
                    <a:gd name="adj1" fmla="val 74768"/>
                    <a:gd name="adj2" fmla="val -61078"/>
                    <a:gd name="adj3" fmla="val 16667"/>
                  </a:avLst>
                </a:prstGeom>
                <a:solidFill>
                  <a:srgbClr val="8fafb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9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88840" y="1879560"/>
                <a:ext cx="2370240" cy="2806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7" name=""/>
            <p:cNvGrpSpPr/>
            <p:nvPr/>
          </p:nvGrpSpPr>
          <p:grpSpPr>
            <a:xfrm>
              <a:off x="3505320" y="1219320"/>
              <a:ext cx="2743200" cy="4419360"/>
              <a:chOff x="3505320" y="1219320"/>
              <a:chExt cx="2743200" cy="4419360"/>
            </a:xfrm>
          </p:grpSpPr>
          <p:sp>
            <p:nvSpPr>
              <p:cNvPr id="98" name=""/>
              <p:cNvSpPr/>
              <p:nvPr/>
            </p:nvSpPr>
            <p:spPr>
              <a:xfrm>
                <a:off x="4038480" y="1219320"/>
                <a:ext cx="685800" cy="228600"/>
              </a:xfrm>
              <a:prstGeom prst="roundRect">
                <a:avLst>
                  <a:gd name="adj" fmla="val 16667"/>
                </a:avLst>
              </a:prstGeom>
              <a:noFill/>
              <a:ln w="22320">
                <a:solidFill>
                  <a:srgbClr val="8faf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9" name=""/>
              <p:cNvGrpSpPr/>
              <p:nvPr/>
            </p:nvGrpSpPr>
            <p:grpSpPr>
              <a:xfrm>
                <a:off x="3505320" y="2514600"/>
                <a:ext cx="2743200" cy="3124080"/>
                <a:chOff x="3505320" y="2514600"/>
                <a:chExt cx="2743200" cy="312408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3505320" y="2514600"/>
                  <a:ext cx="2743200" cy="3124080"/>
                </a:xfrm>
                <a:prstGeom prst="wedgeRoundRectCallout">
                  <a:avLst>
                    <a:gd name="adj1" fmla="val -18865"/>
                    <a:gd name="adj2" fmla="val -85314"/>
                    <a:gd name="adj3" fmla="val 16667"/>
                  </a:avLst>
                </a:prstGeom>
                <a:solidFill>
                  <a:srgbClr val="8fafb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01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720960" y="2679840"/>
                  <a:ext cx="2372040" cy="2781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02" name=""/>
            <p:cNvGrpSpPr/>
            <p:nvPr/>
          </p:nvGrpSpPr>
          <p:grpSpPr>
            <a:xfrm>
              <a:off x="4038480" y="1219320"/>
              <a:ext cx="5029200" cy="3352680"/>
              <a:chOff x="4038480" y="1219320"/>
              <a:chExt cx="5029200" cy="3352680"/>
            </a:xfrm>
          </p:grpSpPr>
          <p:sp>
            <p:nvSpPr>
              <p:cNvPr id="103" name=""/>
              <p:cNvSpPr/>
              <p:nvPr/>
            </p:nvSpPr>
            <p:spPr>
              <a:xfrm>
                <a:off x="4038480" y="1219320"/>
                <a:ext cx="685800" cy="228600"/>
              </a:xfrm>
              <a:prstGeom prst="roundRect">
                <a:avLst>
                  <a:gd name="adj" fmla="val 16667"/>
                </a:avLst>
              </a:prstGeom>
              <a:noFill/>
              <a:ln w="22320">
                <a:solidFill>
                  <a:srgbClr val="8faf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324480" y="1447920"/>
                <a:ext cx="2743200" cy="3124080"/>
              </a:xfrm>
              <a:prstGeom prst="wedgeRoundRectCallout">
                <a:avLst>
                  <a:gd name="adj1" fmla="val -113310"/>
                  <a:gd name="adj2" fmla="val -51523"/>
                  <a:gd name="adj3" fmla="val 16667"/>
                </a:avLst>
              </a:prstGeom>
              <a:solidFill>
                <a:srgbClr val="8fafb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502320" y="1619280"/>
                <a:ext cx="2371680" cy="2781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6" name=""/>
          <p:cNvSpPr/>
          <p:nvPr/>
        </p:nvSpPr>
        <p:spPr>
          <a:xfrm>
            <a:off x="3048120" y="1752480"/>
            <a:ext cx="5195880" cy="304920"/>
          </a:xfrm>
          <a:prstGeom prst="wedgeRoundRectCallout">
            <a:avLst>
              <a:gd name="adj1" fmla="val 7805"/>
              <a:gd name="adj2" fmla="val -163541"/>
              <a:gd name="adj3" fmla="val 16667"/>
            </a:avLst>
          </a:prstGeom>
          <a:solidFill>
            <a:srgbClr val="8faf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ving the view of the development environment as well as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648320" y="1676520"/>
            <a:ext cx="1508040" cy="380880"/>
          </a:xfrm>
          <a:prstGeom prst="wedgeRoundRectCallout">
            <a:avLst>
              <a:gd name="adj1" fmla="val 58208"/>
              <a:gd name="adj2" fmla="val -120833"/>
              <a:gd name="adj3" fmla="val 16667"/>
            </a:avLst>
          </a:prstGeom>
          <a:solidFill>
            <a:srgbClr val="8faf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ting and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48320" y="1676520"/>
            <a:ext cx="1868400" cy="380880"/>
          </a:xfrm>
          <a:prstGeom prst="wedgeRoundRectCallout">
            <a:avLst>
              <a:gd name="adj1" fmla="val -19074"/>
              <a:gd name="adj2" fmla="val -130833"/>
              <a:gd name="adj3" fmla="val 16667"/>
            </a:avLst>
          </a:prstGeom>
          <a:solidFill>
            <a:srgbClr val="8faf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justing the view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410080"/>
            <a:ext cx="3733560" cy="349200"/>
          </a:xfrm>
          <a:prstGeom prst="wedgeRoundRectCallout">
            <a:avLst>
              <a:gd name="adj1" fmla="val -34185"/>
              <a:gd name="adj2" fmla="val 112500"/>
              <a:gd name="adj3" fmla="val 16667"/>
            </a:avLst>
          </a:prstGeom>
          <a:solidFill>
            <a:srgbClr val="8faf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window for compiler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41A95-C3B2-424F-A2E1-DA744ACFC7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500"/>
                            </p:stCondLst>
                            <p:childTnLst>
                              <p:par>
                                <p:cTn id="71" nodeType="afterEffect" fill="hold" presetClass="entr" presetID="1" repeatCount="100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65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" dur="1" fill="hold">
                                    <p:stCondLst>
                                      <p:cond delay="600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30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7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15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0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6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4" dur="1" fill="hold">
                                    <p:stCondLst>
                                      <p:cond delay="10000"/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65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8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10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5" dur="1" fill="hold"/>
                                  <p:tgtEl>
                                    <p:spTgt spid="1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9144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784080" y="5483160"/>
            <a:ext cx="7648560" cy="531720"/>
            <a:chOff x="784080" y="5483160"/>
            <a:chExt cx="7648560" cy="531720"/>
          </a:xfrm>
        </p:grpSpPr>
        <p:sp>
          <p:nvSpPr>
            <p:cNvPr id="112" name=""/>
            <p:cNvSpPr/>
            <p:nvPr/>
          </p:nvSpPr>
          <p:spPr>
            <a:xfrm>
              <a:off x="4191120" y="5483160"/>
              <a:ext cx="4241520" cy="530280"/>
            </a:xfrm>
            <a:prstGeom prst="rect">
              <a:avLst/>
            </a:prstGeom>
            <a:solidFill>
              <a:srgbClr val="8fafbe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2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Times New Roman"/>
                </a:rPr>
                <a:t>0..49d_17h_2m_47s_295ms; resolution 1 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84360" y="5483160"/>
              <a:ext cx="1709640" cy="530280"/>
            </a:xfrm>
            <a:prstGeom prst="rect">
              <a:avLst/>
            </a:prstGeom>
            <a:solidFill>
              <a:srgbClr val="8fafbe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Times New Roman"/>
                </a:rPr>
                <a:t>32B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84080" y="5486400"/>
              <a:ext cx="1710000" cy="528480"/>
            </a:xfrm>
            <a:prstGeom prst="rect">
              <a:avLst/>
            </a:prstGeom>
            <a:solidFill>
              <a:srgbClr val="8fafbe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de-DE" sz="1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774720" y="4954680"/>
            <a:ext cx="7657920" cy="533160"/>
            <a:chOff x="774720" y="4954680"/>
            <a:chExt cx="7657920" cy="533160"/>
          </a:xfrm>
        </p:grpSpPr>
        <p:sp>
          <p:nvSpPr>
            <p:cNvPr id="116" name=""/>
            <p:cNvSpPr/>
            <p:nvPr/>
          </p:nvSpPr>
          <p:spPr>
            <a:xfrm>
              <a:off x="4191120" y="4957920"/>
              <a:ext cx="4241520" cy="525240"/>
            </a:xfrm>
            <a:prstGeom prst="rect">
              <a:avLst/>
            </a:prstGeom>
            <a:solidFill>
              <a:srgbClr val="8fafbe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Times New Roman"/>
                </a:rPr>
                <a:t>-1.2E-38 .. 1.2E38; precision (decimal): 6 digi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484360" y="4954680"/>
              <a:ext cx="1708200" cy="533160"/>
            </a:xfrm>
            <a:prstGeom prst="rect">
              <a:avLst/>
            </a:prstGeom>
            <a:solidFill>
              <a:srgbClr val="8fafbe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Times New Roman"/>
                </a:rPr>
                <a:t>32B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74720" y="4954680"/>
              <a:ext cx="1709640" cy="528480"/>
            </a:xfrm>
            <a:prstGeom prst="rect">
              <a:avLst/>
            </a:prstGeom>
            <a:solidFill>
              <a:srgbClr val="8fafbe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de-DE" sz="1400" spc="-1" strike="noStrike">
                  <a:solidFill>
                    <a:srgbClr val="000000"/>
                  </a:solidFill>
                  <a:latin typeface="Times New Roman"/>
                </a:rPr>
                <a:t>RE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774720" y="4422600"/>
            <a:ext cx="7657920" cy="541440"/>
            <a:chOff x="774720" y="4422600"/>
            <a:chExt cx="7657920" cy="541440"/>
          </a:xfrm>
        </p:grpSpPr>
        <p:sp>
          <p:nvSpPr>
            <p:cNvPr id="120" name=""/>
            <p:cNvSpPr/>
            <p:nvPr/>
          </p:nvSpPr>
          <p:spPr>
            <a:xfrm>
              <a:off x="4197240" y="4422600"/>
              <a:ext cx="4235400" cy="535320"/>
            </a:xfrm>
            <a:prstGeom prst="rect">
              <a:avLst/>
            </a:prstGeom>
            <a:solidFill>
              <a:srgbClr val="8fafbe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Times New Roman"/>
                </a:rPr>
                <a:t>-2147483648..214748364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487600" y="4422600"/>
              <a:ext cx="1711440" cy="541440"/>
            </a:xfrm>
            <a:prstGeom prst="rect">
              <a:avLst/>
            </a:prstGeom>
            <a:solidFill>
              <a:srgbClr val="8fafbe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Times New Roman"/>
                </a:rPr>
                <a:t>32B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4720" y="4422600"/>
              <a:ext cx="1712880" cy="533520"/>
            </a:xfrm>
            <a:prstGeom prst="rect">
              <a:avLst/>
            </a:prstGeom>
            <a:solidFill>
              <a:srgbClr val="8fafbe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de-DE" sz="1400" spc="-1" strike="noStrike">
                  <a:solidFill>
                    <a:srgbClr val="000000"/>
                  </a:solidFill>
                  <a:latin typeface="Times New Roman"/>
                </a:rPr>
                <a:t>D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774720" y="3882960"/>
            <a:ext cx="7657920" cy="544680"/>
            <a:chOff x="774720" y="3882960"/>
            <a:chExt cx="7657920" cy="544680"/>
          </a:xfrm>
        </p:grpSpPr>
        <p:sp>
          <p:nvSpPr>
            <p:cNvPr id="124" name=""/>
            <p:cNvSpPr/>
            <p:nvPr/>
          </p:nvSpPr>
          <p:spPr>
            <a:xfrm>
              <a:off x="4191120" y="3882960"/>
              <a:ext cx="4241520" cy="544680"/>
            </a:xfrm>
            <a:prstGeom prst="rect">
              <a:avLst/>
            </a:prstGeom>
            <a:solidFill>
              <a:srgbClr val="8fafbe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Times New Roman"/>
                </a:rPr>
                <a:t>-32768..+3276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84360" y="3898800"/>
              <a:ext cx="1708200" cy="528840"/>
            </a:xfrm>
            <a:prstGeom prst="rect">
              <a:avLst/>
            </a:prstGeom>
            <a:solidFill>
              <a:srgbClr val="8fafbe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Times New Roman"/>
                </a:rPr>
                <a:t>16B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4720" y="3898800"/>
              <a:ext cx="1709640" cy="528840"/>
            </a:xfrm>
            <a:prstGeom prst="rect">
              <a:avLst/>
            </a:prstGeom>
            <a:solidFill>
              <a:srgbClr val="8fafbe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de-DE" sz="1400" spc="-1" strike="noStrike">
                  <a:solidFill>
                    <a:srgbClr val="000000"/>
                  </a:solidFill>
                  <a:latin typeface="Times New Roman"/>
                </a:rPr>
                <a:t>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774720" y="3367080"/>
            <a:ext cx="7657560" cy="536760"/>
            <a:chOff x="774720" y="3367080"/>
            <a:chExt cx="7657560" cy="536760"/>
          </a:xfrm>
        </p:grpSpPr>
        <p:sp>
          <p:nvSpPr>
            <p:cNvPr id="128" name=""/>
            <p:cNvSpPr/>
            <p:nvPr/>
          </p:nvSpPr>
          <p:spPr>
            <a:xfrm>
              <a:off x="4196520" y="3367080"/>
              <a:ext cx="4235760" cy="536760"/>
            </a:xfrm>
            <a:prstGeom prst="rect">
              <a:avLst/>
            </a:prstGeom>
            <a:solidFill>
              <a:srgbClr val="8fafbe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Times New Roman"/>
                </a:rPr>
                <a:t>0..429496729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486880" y="3367080"/>
              <a:ext cx="1710720" cy="536760"/>
            </a:xfrm>
            <a:prstGeom prst="rect">
              <a:avLst/>
            </a:prstGeom>
            <a:solidFill>
              <a:srgbClr val="8fafbe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Times New Roman"/>
                </a:rPr>
                <a:t>32B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4720" y="3367080"/>
              <a:ext cx="1712160" cy="536760"/>
            </a:xfrm>
            <a:prstGeom prst="rect">
              <a:avLst/>
            </a:prstGeom>
            <a:solidFill>
              <a:srgbClr val="8fafbe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de-DE" sz="1400" spc="-1" strike="noStrike">
                  <a:solidFill>
                    <a:srgbClr val="000000"/>
                  </a:solidFill>
                  <a:latin typeface="Times New Roman"/>
                </a:rPr>
                <a:t>DWOR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774720" y="2836800"/>
            <a:ext cx="7657920" cy="534960"/>
            <a:chOff x="774720" y="2836800"/>
            <a:chExt cx="7657920" cy="534960"/>
          </a:xfrm>
        </p:grpSpPr>
        <p:sp>
          <p:nvSpPr>
            <p:cNvPr id="132" name=""/>
            <p:cNvSpPr/>
            <p:nvPr/>
          </p:nvSpPr>
          <p:spPr>
            <a:xfrm>
              <a:off x="4191120" y="2836800"/>
              <a:ext cx="4241520" cy="534960"/>
            </a:xfrm>
            <a:prstGeom prst="rect">
              <a:avLst/>
            </a:prstGeom>
            <a:solidFill>
              <a:srgbClr val="8fafbe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Times New Roman"/>
                </a:rPr>
                <a:t>0..6553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84360" y="2843280"/>
              <a:ext cx="1708200" cy="528480"/>
            </a:xfrm>
            <a:prstGeom prst="rect">
              <a:avLst/>
            </a:prstGeom>
            <a:solidFill>
              <a:srgbClr val="8fafbe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Times New Roman"/>
                </a:rPr>
                <a:t>16B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74720" y="2843280"/>
              <a:ext cx="1709640" cy="528480"/>
            </a:xfrm>
            <a:prstGeom prst="rect">
              <a:avLst/>
            </a:prstGeom>
            <a:solidFill>
              <a:srgbClr val="8fafbe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Times New Roman"/>
                </a:rPr>
                <a:t>WOR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774720" y="2397240"/>
            <a:ext cx="7657920" cy="446040"/>
            <a:chOff x="774720" y="2397240"/>
            <a:chExt cx="7657920" cy="446040"/>
          </a:xfrm>
        </p:grpSpPr>
        <p:sp>
          <p:nvSpPr>
            <p:cNvPr id="136" name=""/>
            <p:cNvSpPr/>
            <p:nvPr/>
          </p:nvSpPr>
          <p:spPr>
            <a:xfrm>
              <a:off x="4191120" y="2397240"/>
              <a:ext cx="4241520" cy="446040"/>
            </a:xfrm>
            <a:prstGeom prst="rect">
              <a:avLst/>
            </a:prstGeom>
            <a:solidFill>
              <a:srgbClr val="8fafbe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Times New Roman"/>
                </a:rPr>
                <a:t>0..25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484360" y="2398680"/>
              <a:ext cx="1708200" cy="444600"/>
            </a:xfrm>
            <a:prstGeom prst="rect">
              <a:avLst/>
            </a:prstGeom>
            <a:solidFill>
              <a:srgbClr val="8fafbe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Times New Roman"/>
                </a:rPr>
                <a:t>8B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74720" y="2398680"/>
              <a:ext cx="1709640" cy="444600"/>
            </a:xfrm>
            <a:prstGeom prst="rect">
              <a:avLst/>
            </a:prstGeom>
            <a:solidFill>
              <a:srgbClr val="8fafbe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de-DE" sz="1400" spc="-1" strike="noStrike">
                  <a:solidFill>
                    <a:srgbClr val="000000"/>
                  </a:solidFill>
                  <a:latin typeface="Times New Roman"/>
                </a:rPr>
                <a:t>BY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774720" y="1951200"/>
            <a:ext cx="7657920" cy="447480"/>
            <a:chOff x="774720" y="1951200"/>
            <a:chExt cx="7657920" cy="447480"/>
          </a:xfrm>
        </p:grpSpPr>
        <p:sp>
          <p:nvSpPr>
            <p:cNvPr id="140" name=""/>
            <p:cNvSpPr/>
            <p:nvPr/>
          </p:nvSpPr>
          <p:spPr>
            <a:xfrm>
              <a:off x="4191120" y="1951200"/>
              <a:ext cx="4241520" cy="447480"/>
            </a:xfrm>
            <a:prstGeom prst="rect">
              <a:avLst/>
            </a:prstGeom>
            <a:solidFill>
              <a:srgbClr val="8fafbe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Times New Roman"/>
                </a:rPr>
                <a:t>true, fal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484360" y="1952640"/>
              <a:ext cx="1708200" cy="446040"/>
            </a:xfrm>
            <a:prstGeom prst="rect">
              <a:avLst/>
            </a:prstGeom>
            <a:solidFill>
              <a:srgbClr val="8fafbe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Times New Roman"/>
                </a:rPr>
                <a:t>1B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74720" y="1952640"/>
              <a:ext cx="1709640" cy="446040"/>
            </a:xfrm>
            <a:prstGeom prst="rect">
              <a:avLst/>
            </a:prstGeom>
            <a:solidFill>
              <a:srgbClr val="8fafbe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de-DE" sz="1400" spc="-1" strike="noStrike">
                  <a:solidFill>
                    <a:srgbClr val="000000"/>
                  </a:solidFill>
                  <a:latin typeface="Times New Roman"/>
                </a:rPr>
                <a:t>BO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774720" y="1241280"/>
            <a:ext cx="7657920" cy="711360"/>
            <a:chOff x="774720" y="1241280"/>
            <a:chExt cx="7657920" cy="711360"/>
          </a:xfrm>
        </p:grpSpPr>
        <p:sp>
          <p:nvSpPr>
            <p:cNvPr id="144" name=""/>
            <p:cNvSpPr/>
            <p:nvPr/>
          </p:nvSpPr>
          <p:spPr>
            <a:xfrm>
              <a:off x="4191120" y="1241280"/>
              <a:ext cx="4241520" cy="708120"/>
            </a:xfrm>
            <a:prstGeom prst="rect">
              <a:avLst/>
            </a:prstGeom>
            <a:solidFill>
              <a:srgbClr val="8fafbe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Arial"/>
                </a:rPr>
                <a:t>Ran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484360" y="1241280"/>
              <a:ext cx="1708200" cy="711360"/>
            </a:xfrm>
            <a:prstGeom prst="rect">
              <a:avLst/>
            </a:prstGeom>
            <a:solidFill>
              <a:srgbClr val="8fafbe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Arial"/>
                </a:rPr>
                <a:t>Siz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74720" y="1241280"/>
              <a:ext cx="1709640" cy="711360"/>
            </a:xfrm>
            <a:prstGeom prst="rect">
              <a:avLst/>
            </a:prstGeom>
            <a:solidFill>
              <a:srgbClr val="8fafbe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Arial"/>
                </a:rPr>
                <a:t>       </a:t>
              </a:r>
              <a:r>
                <a:rPr b="1" lang="de-DE" sz="1800" spc="-1" strike="noStrike">
                  <a:solidFill>
                    <a:srgbClr val="003300"/>
                  </a:solidFill>
                  <a:latin typeface="Arial"/>
                </a:rPr>
                <a:t>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388800" y="948960"/>
            <a:ext cx="1204920" cy="337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typ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076D7-4568-46D8-880E-B0C46C29AA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4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8500"/>
                            </p:stCondLst>
                            <p:childTnLst>
                              <p:par>
                                <p:cTn id="123" nodeType="afterEffect" fill="hold" presetClass="entr" presetID="4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7" nodeType="afterEffect" fill="hold" presetClass="entr" presetID="4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7500"/>
                            </p:stCondLst>
                            <p:childTnLst>
                              <p:par>
                                <p:cTn id="131" nodeType="afterEffect" fill="hold" presetClass="entr" presetID="4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35" nodeType="afterEffect" fill="hold" presetClass="entr" presetID="4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6500"/>
                            </p:stCondLst>
                            <p:childTnLst>
                              <p:par>
                                <p:cTn id="139" nodeType="afterEffect" fill="hold" presetClass="entr" presetID="4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1000"/>
                            </p:stCondLst>
                            <p:childTnLst>
                              <p:par>
                                <p:cTn id="143" nodeType="afterEffect" fill="hold" presetClass="entr" presetID="4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5500"/>
                            </p:stCondLst>
                            <p:childTnLst>
                              <p:par>
                                <p:cTn id="147" nodeType="afterEffect" fill="hold" presetClass="entr" presetID="4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80880" y="1295280"/>
            <a:ext cx="8153640" cy="4343400"/>
          </a:xfrm>
          <a:prstGeom prst="rect">
            <a:avLst/>
          </a:prstGeom>
          <a:solidFill>
            <a:srgbClr val="8fafbe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33520" y="1447560"/>
            <a:ext cx="2262240" cy="337320"/>
            <a:chOff x="533520" y="1447560"/>
            <a:chExt cx="2262240" cy="337320"/>
          </a:xfrm>
        </p:grpSpPr>
        <p:sp>
          <p:nvSpPr>
            <p:cNvPr id="150" name=""/>
            <p:cNvSpPr/>
            <p:nvPr/>
          </p:nvSpPr>
          <p:spPr>
            <a:xfrm>
              <a:off x="995040" y="1447560"/>
              <a:ext cx="180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oading / Sav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5400000">
              <a:off x="571320" y="1471680"/>
              <a:ext cx="228600" cy="30456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33520" y="1879200"/>
            <a:ext cx="2443680" cy="337320"/>
            <a:chOff x="533520" y="1879200"/>
            <a:chExt cx="2443680" cy="337320"/>
          </a:xfrm>
        </p:grpSpPr>
        <p:sp>
          <p:nvSpPr>
            <p:cNvPr id="153" name=""/>
            <p:cNvSpPr/>
            <p:nvPr/>
          </p:nvSpPr>
          <p:spPr>
            <a:xfrm>
              <a:off x="996480" y="1879200"/>
              <a:ext cx="198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itwise oper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5400000">
              <a:off x="571320" y="1903320"/>
              <a:ext cx="228600" cy="30456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33520" y="2361960"/>
            <a:ext cx="2183760" cy="337320"/>
            <a:chOff x="533520" y="2361960"/>
            <a:chExt cx="2183760" cy="337320"/>
          </a:xfrm>
        </p:grpSpPr>
        <p:sp>
          <p:nvSpPr>
            <p:cNvPr id="156" name=""/>
            <p:cNvSpPr/>
            <p:nvPr/>
          </p:nvSpPr>
          <p:spPr>
            <a:xfrm>
              <a:off x="995760" y="2361960"/>
              <a:ext cx="172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hift oper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5400000">
              <a:off x="571320" y="2386080"/>
              <a:ext cx="228600" cy="30456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533520" y="2819160"/>
            <a:ext cx="1935000" cy="337320"/>
            <a:chOff x="533520" y="2819160"/>
            <a:chExt cx="1935000" cy="337320"/>
          </a:xfrm>
        </p:grpSpPr>
        <p:sp>
          <p:nvSpPr>
            <p:cNvPr id="159" name=""/>
            <p:cNvSpPr/>
            <p:nvPr/>
          </p:nvSpPr>
          <p:spPr>
            <a:xfrm>
              <a:off x="993960" y="2819160"/>
              <a:ext cx="147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mparis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5400000">
              <a:off x="571320" y="2843280"/>
              <a:ext cx="228600" cy="30456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533520" y="3276360"/>
            <a:ext cx="2612160" cy="337320"/>
            <a:chOff x="533520" y="3276360"/>
            <a:chExt cx="2612160" cy="337320"/>
          </a:xfrm>
        </p:grpSpPr>
        <p:sp>
          <p:nvSpPr>
            <p:cNvPr id="162" name=""/>
            <p:cNvSpPr/>
            <p:nvPr/>
          </p:nvSpPr>
          <p:spPr>
            <a:xfrm>
              <a:off x="997560" y="3276360"/>
              <a:ext cx="214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rithmetic 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5400000">
              <a:off x="571320" y="3300480"/>
              <a:ext cx="228600" cy="30456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33520" y="3733560"/>
            <a:ext cx="2420280" cy="337320"/>
            <a:chOff x="533520" y="3733560"/>
            <a:chExt cx="2420280" cy="337320"/>
          </a:xfrm>
        </p:grpSpPr>
        <p:sp>
          <p:nvSpPr>
            <p:cNvPr id="165" name=""/>
            <p:cNvSpPr/>
            <p:nvPr/>
          </p:nvSpPr>
          <p:spPr>
            <a:xfrm>
              <a:off x="996120" y="3733560"/>
              <a:ext cx="195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umeric 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5400000">
              <a:off x="571320" y="3757680"/>
              <a:ext cx="228600" cy="30456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533520" y="4190760"/>
            <a:ext cx="1292760" cy="337320"/>
            <a:chOff x="533520" y="4190760"/>
            <a:chExt cx="1292760" cy="337320"/>
          </a:xfrm>
        </p:grpSpPr>
        <p:sp>
          <p:nvSpPr>
            <p:cNvPr id="168" name=""/>
            <p:cNvSpPr/>
            <p:nvPr/>
          </p:nvSpPr>
          <p:spPr>
            <a:xfrm>
              <a:off x="993240" y="4190760"/>
              <a:ext cx="83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Jum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5400000">
              <a:off x="571320" y="4214880"/>
              <a:ext cx="228600" cy="30456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533520" y="4647960"/>
            <a:ext cx="3232080" cy="337320"/>
            <a:chOff x="533520" y="4647960"/>
            <a:chExt cx="3232080" cy="337320"/>
          </a:xfrm>
        </p:grpSpPr>
        <p:sp>
          <p:nvSpPr>
            <p:cNvPr id="171" name=""/>
            <p:cNvSpPr/>
            <p:nvPr/>
          </p:nvSpPr>
          <p:spPr>
            <a:xfrm>
              <a:off x="998640" y="4647960"/>
              <a:ext cx="2766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allings of function block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5400000">
              <a:off x="571320" y="4672080"/>
              <a:ext cx="228600" cy="30456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33520" y="5105160"/>
            <a:ext cx="2984040" cy="337320"/>
            <a:chOff x="533520" y="5105160"/>
            <a:chExt cx="2984040" cy="337320"/>
          </a:xfrm>
        </p:grpSpPr>
        <p:sp>
          <p:nvSpPr>
            <p:cNvPr id="174" name=""/>
            <p:cNvSpPr/>
            <p:nvPr/>
          </p:nvSpPr>
          <p:spPr>
            <a:xfrm>
              <a:off x="997560" y="5105160"/>
              <a:ext cx="252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ype casting instru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5400000">
              <a:off x="571320" y="5129280"/>
              <a:ext cx="228600" cy="30456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240" y="227520"/>
            <a:ext cx="3349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vailable instru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771640" y="1295280"/>
            <a:ext cx="5762880" cy="4343400"/>
            <a:chOff x="2771640" y="1295280"/>
            <a:chExt cx="5762880" cy="4343400"/>
          </a:xfrm>
        </p:grpSpPr>
        <p:sp>
          <p:nvSpPr>
            <p:cNvPr id="178" name=""/>
            <p:cNvSpPr/>
            <p:nvPr/>
          </p:nvSpPr>
          <p:spPr>
            <a:xfrm>
              <a:off x="2771640" y="1600200"/>
              <a:ext cx="157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343400" y="1295280"/>
              <a:ext cx="4191120" cy="4343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LD, LDN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ST, STN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STC, STC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2987640" y="1295280"/>
            <a:ext cx="5546880" cy="4343400"/>
            <a:chOff x="2987640" y="1295280"/>
            <a:chExt cx="5546880" cy="4343400"/>
          </a:xfrm>
        </p:grpSpPr>
        <p:sp>
          <p:nvSpPr>
            <p:cNvPr id="181" name=""/>
            <p:cNvSpPr/>
            <p:nvPr/>
          </p:nvSpPr>
          <p:spPr>
            <a:xfrm>
              <a:off x="2987640" y="2057400"/>
              <a:ext cx="135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343400" y="1295280"/>
              <a:ext cx="4191120" cy="4343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AND, OR, XOR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ANDN, ORN,XORN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AND(, OR(, XOR(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ANDN(, ORN(, XORN(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NO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771640" y="1295280"/>
            <a:ext cx="5762880" cy="4343400"/>
            <a:chOff x="2771640" y="1295280"/>
            <a:chExt cx="5762880" cy="4343400"/>
          </a:xfrm>
        </p:grpSpPr>
        <p:sp>
          <p:nvSpPr>
            <p:cNvPr id="184" name=""/>
            <p:cNvSpPr/>
            <p:nvPr/>
          </p:nvSpPr>
          <p:spPr>
            <a:xfrm>
              <a:off x="2771640" y="2540160"/>
              <a:ext cx="157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343400" y="1295280"/>
              <a:ext cx="4191120" cy="4343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SHL, SH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ROL, R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484360" y="1295280"/>
            <a:ext cx="6050160" cy="4343400"/>
            <a:chOff x="2484360" y="1295280"/>
            <a:chExt cx="6050160" cy="4343400"/>
          </a:xfrm>
        </p:grpSpPr>
        <p:sp>
          <p:nvSpPr>
            <p:cNvPr id="187" name=""/>
            <p:cNvSpPr/>
            <p:nvPr/>
          </p:nvSpPr>
          <p:spPr>
            <a:xfrm>
              <a:off x="2484360" y="3009960"/>
              <a:ext cx="18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343400" y="1295280"/>
              <a:ext cx="4191120" cy="4343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LT, LE, EQ, NE, GE, G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LT(, LE(, EQ(, NE(, GE(, GT(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3203640" y="1295280"/>
            <a:ext cx="5330880" cy="4343400"/>
            <a:chOff x="3203640" y="1295280"/>
            <a:chExt cx="5330880" cy="4343400"/>
          </a:xfrm>
        </p:grpSpPr>
        <p:sp>
          <p:nvSpPr>
            <p:cNvPr id="190" name=""/>
            <p:cNvSpPr/>
            <p:nvPr/>
          </p:nvSpPr>
          <p:spPr>
            <a:xfrm>
              <a:off x="3203640" y="3454560"/>
              <a:ext cx="113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343400" y="1295280"/>
              <a:ext cx="4191120" cy="4343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ADD, SUB, MUL, DIV, MO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ADD(, SUB(, MUL(, DIV(, MOD(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2987640" y="1295280"/>
            <a:ext cx="5546880" cy="4343400"/>
            <a:chOff x="2987640" y="1295280"/>
            <a:chExt cx="5546880" cy="4343400"/>
          </a:xfrm>
        </p:grpSpPr>
        <p:sp>
          <p:nvSpPr>
            <p:cNvPr id="193" name=""/>
            <p:cNvSpPr/>
            <p:nvPr/>
          </p:nvSpPr>
          <p:spPr>
            <a:xfrm>
              <a:off x="2987640" y="3898800"/>
              <a:ext cx="135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343400" y="1295280"/>
              <a:ext cx="4191120" cy="4343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ABS, NEG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LN, LOG, EXP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SQRT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SIN, COS, TAN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ASIN, ACOS, AT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1835280" y="1295280"/>
            <a:ext cx="6699240" cy="4343400"/>
            <a:chOff x="1835280" y="1295280"/>
            <a:chExt cx="6699240" cy="4343400"/>
          </a:xfrm>
        </p:grpSpPr>
        <p:sp>
          <p:nvSpPr>
            <p:cNvPr id="196" name=""/>
            <p:cNvSpPr/>
            <p:nvPr/>
          </p:nvSpPr>
          <p:spPr>
            <a:xfrm>
              <a:off x="1835280" y="4368960"/>
              <a:ext cx="250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343400" y="1295280"/>
              <a:ext cx="4191120" cy="4343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JMP, JMPC, JMPCN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JMPL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RET, RETC, RETC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3780000" y="1295280"/>
            <a:ext cx="4754520" cy="4343400"/>
            <a:chOff x="3780000" y="1295280"/>
            <a:chExt cx="4754520" cy="4343400"/>
          </a:xfrm>
        </p:grpSpPr>
        <p:sp>
          <p:nvSpPr>
            <p:cNvPr id="199" name=""/>
            <p:cNvSpPr/>
            <p:nvPr/>
          </p:nvSpPr>
          <p:spPr>
            <a:xfrm>
              <a:off x="3780000" y="4813200"/>
              <a:ext cx="56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343400" y="1295280"/>
              <a:ext cx="4191120" cy="4343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CAL, CALC, CALC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564000" y="1295280"/>
            <a:ext cx="4970520" cy="4343400"/>
            <a:chOff x="3564000" y="1295280"/>
            <a:chExt cx="4970520" cy="4343400"/>
          </a:xfrm>
        </p:grpSpPr>
        <p:sp>
          <p:nvSpPr>
            <p:cNvPr id="202" name=""/>
            <p:cNvSpPr/>
            <p:nvPr/>
          </p:nvSpPr>
          <p:spPr>
            <a:xfrm>
              <a:off x="3564000" y="5283360"/>
              <a:ext cx="77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343400" y="1295280"/>
              <a:ext cx="4191120" cy="4343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xxxx_TO_yyy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for all xxxx unequal yyyy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not existent: BOOL_TO_TI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87A99-76D8-4AD4-B135-C0C677D543D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0"/>
                            </p:stCondLst>
                            <p:childTnLst>
                              <p:par>
                                <p:cTn id="163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850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3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500"/>
                            </p:stCondLst>
                            <p:childTnLst>
                              <p:par>
                                <p:cTn id="178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9000"/>
                            </p:stCondLst>
                            <p:childTnLst>
                              <p:par>
                                <p:cTn id="183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250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6000"/>
                            </p:stCondLst>
                            <p:childTnLst>
                              <p:par>
                                <p:cTn id="193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9500"/>
                            </p:stCondLst>
                            <p:childTnLst>
                              <p:par>
                                <p:cTn id="198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3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90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8" dur="1" fill="hold">
                                    <p:stCondLst>
                                      <p:cond delay="6000"/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500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2" dur="1" fill="hold">
                                    <p:stCondLst>
                                      <p:cond delay="6000"/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10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6" dur="1" fill="hold">
                                    <p:stCondLst>
                                      <p:cond delay="6000"/>
                                    </p:stCondLst>
                                  </p:cTn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70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0" dur="1" fill="hold">
                                    <p:stCondLst>
                                      <p:cond delay="6000"/>
                                    </p:stCondLst>
                                  </p:cTn>
                                  <p:tgtEl>
                                    <p:spTgt spid="1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630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630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8" dur="1" fill="hold">
                                    <p:stCondLst>
                                      <p:cond delay="6000"/>
                                    </p:stCondLst>
                                  </p:cTn>
                                  <p:tgtEl>
                                    <p:spTgt spid="1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690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2" dur="1" fill="hold">
                                    <p:stCondLst>
                                      <p:cond delay="6000"/>
                                    </p:stCondLst>
                                  </p:cTn>
                                  <p:tgtEl>
                                    <p:spTgt spid="1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750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6" dur="1" fill="hold">
                                    <p:stCondLst>
                                      <p:cond delay="6000"/>
                                    </p:stCondLst>
                                  </p:cTn>
                                  <p:tgtEl>
                                    <p:spTgt spid="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39" dur="1" fill="hold"/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28195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tand–Alone-PL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86800" cy="50356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30520" y="5480280"/>
            <a:ext cx="2890440" cy="812520"/>
          </a:xfrm>
          <a:prstGeom prst="roundRect">
            <a:avLst>
              <a:gd name="adj" fmla="val 16667"/>
            </a:avLst>
          </a:prstGeom>
          <a:solidFill>
            <a:srgbClr val="8faf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perates always as DDE-Server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puts:  r / 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utputs: r /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762120" y="1193760"/>
            <a:ext cx="4314600" cy="3673440"/>
            <a:chOff x="762120" y="1193760"/>
            <a:chExt cx="4314600" cy="3673440"/>
          </a:xfrm>
        </p:grpSpPr>
        <p:sp>
          <p:nvSpPr>
            <p:cNvPr id="208" name=""/>
            <p:cNvSpPr/>
            <p:nvPr/>
          </p:nvSpPr>
          <p:spPr>
            <a:xfrm>
              <a:off x="4826160" y="2886120"/>
              <a:ext cx="250560" cy="1143000"/>
            </a:xfrm>
            <a:custGeom>
              <a:avLst/>
              <a:gdLst>
                <a:gd name="textAreaLeft" fmla="*/ 12240 w 250560"/>
                <a:gd name="textAreaRight" fmla="*/ 238320 w 250560"/>
                <a:gd name="textAreaTop" fmla="*/ 12240 h 1143000"/>
                <a:gd name="textAreaBottom" fmla="*/ 1130760 h 1143000"/>
              </a:gdLst>
              <a:ahLst/>
              <a:rect l="textAreaLeft" t="textAreaTop" r="textAreaRight" b="textAreaBottom"/>
              <a:pathLst>
                <a:path w="21600" h="98424">
                  <a:moveTo>
                    <a:pt x="3600" y="0"/>
                  </a:moveTo>
                  <a:arcTo wR="3600" hR="3600" stAng="16200000" swAng="-5400000"/>
                  <a:lnTo>
                    <a:pt x="0" y="94824"/>
                  </a:lnTo>
                  <a:arcTo wR="3600" hR="3600" stAng="10800000" swAng="-5400000"/>
                  <a:lnTo>
                    <a:pt x="18000" y="984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2320">
              <a:solidFill>
                <a:srgbClr val="8faf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762120" y="2670120"/>
              <a:ext cx="3200400" cy="685800"/>
              <a:chOff x="762120" y="2670120"/>
              <a:chExt cx="3200400" cy="685800"/>
            </a:xfrm>
          </p:grpSpPr>
          <p:grpSp>
            <p:nvGrpSpPr>
              <p:cNvPr id="210" name=""/>
              <p:cNvGrpSpPr/>
              <p:nvPr/>
            </p:nvGrpSpPr>
            <p:grpSpPr>
              <a:xfrm>
                <a:off x="762120" y="2670120"/>
                <a:ext cx="3200400" cy="685800"/>
                <a:chOff x="762120" y="2670120"/>
                <a:chExt cx="3200400" cy="6858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762120" y="2670120"/>
                  <a:ext cx="3200400" cy="685800"/>
                </a:xfrm>
                <a:prstGeom prst="wedgeRoundRectCallout">
                  <a:avLst>
                    <a:gd name="adj1" fmla="val -40277"/>
                    <a:gd name="adj2" fmla="val 143981"/>
                    <a:gd name="adj3" fmla="val 16667"/>
                  </a:avLst>
                </a:prstGeom>
                <a:solidFill>
                  <a:srgbClr val="8faf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762120" y="2898720"/>
                  <a:ext cx="3200400" cy="457200"/>
                </a:xfrm>
                <a:prstGeom prst="wedgeRoundRectCallout">
                  <a:avLst>
                    <a:gd name="adj1" fmla="val -597"/>
                    <a:gd name="adj2" fmla="val -353472"/>
                    <a:gd name="adj3" fmla="val 16667"/>
                  </a:avLst>
                </a:prstGeom>
                <a:solidFill>
                  <a:srgbClr val="8faf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3" name=""/>
              <p:cNvSpPr/>
              <p:nvPr/>
            </p:nvSpPr>
            <p:spPr>
              <a:xfrm>
                <a:off x="762120" y="2746440"/>
                <a:ext cx="3200400" cy="609480"/>
              </a:xfrm>
              <a:prstGeom prst="wedgeRoundRectCallout">
                <a:avLst>
                  <a:gd name="adj1" fmla="val 79958"/>
                  <a:gd name="adj2" fmla="val 66148"/>
                  <a:gd name="adj3" fmla="val 16667"/>
                </a:avLst>
              </a:prstGeom>
              <a:solidFill>
                <a:srgbClr val="8fa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upport of all WinFACT driver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888840" y="4022640"/>
              <a:ext cx="216000" cy="844560"/>
            </a:xfrm>
            <a:custGeom>
              <a:avLst/>
              <a:gdLst>
                <a:gd name="textAreaLeft" fmla="*/ 10440 w 216000"/>
                <a:gd name="textAreaRight" fmla="*/ 205560 w 216000"/>
                <a:gd name="textAreaTop" fmla="*/ 10440 h 844560"/>
                <a:gd name="textAreaBottom" fmla="*/ 834120 h 844560"/>
              </a:gdLst>
              <a:ahLst/>
              <a:rect l="textAreaLeft" t="textAreaTop" r="textAreaRight" b="textAreaBottom"/>
              <a:pathLst>
                <a:path w="21600" h="84351">
                  <a:moveTo>
                    <a:pt x="3600" y="0"/>
                  </a:moveTo>
                  <a:arcTo wR="3600" hR="3600" stAng="16200000" swAng="-5400000"/>
                  <a:lnTo>
                    <a:pt x="0" y="80751"/>
                  </a:lnTo>
                  <a:arcTo wR="3600" hR="3600" stAng="10800000" swAng="-5400000"/>
                  <a:lnTo>
                    <a:pt x="18000" y="843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2320">
              <a:solidFill>
                <a:srgbClr val="8faf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5400000">
              <a:off x="2210760" y="1191960"/>
              <a:ext cx="333360" cy="336600"/>
            </a:xfrm>
            <a:custGeom>
              <a:avLst/>
              <a:gdLst>
                <a:gd name="textAreaLeft" fmla="*/ 16200 w 333360"/>
                <a:gd name="textAreaRight" fmla="*/ 317160 w 333360"/>
                <a:gd name="textAreaTop" fmla="*/ 16200 h 336600"/>
                <a:gd name="textAreaBottom" fmla="*/ 320400 h 336600"/>
              </a:gdLst>
              <a:ahLst/>
              <a:rect l="textAreaLeft" t="textAreaTop" r="textAreaRight" b="textAreaBottom"/>
              <a:pathLst>
                <a:path w="21600" h="21810">
                  <a:moveTo>
                    <a:pt x="3600" y="0"/>
                  </a:moveTo>
                  <a:arcTo wR="3600" hR="3600" stAng="16200000" swAng="-5400000"/>
                  <a:lnTo>
                    <a:pt x="0" y="18210"/>
                  </a:lnTo>
                  <a:arcTo wR="3600" hR="3600" stAng="10800000" swAng="-5400000"/>
                  <a:lnTo>
                    <a:pt x="18000" y="218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2320">
              <a:solidFill>
                <a:srgbClr val="8faf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1841400" y="507960"/>
            <a:ext cx="3187800" cy="990720"/>
            <a:chOff x="1841400" y="507960"/>
            <a:chExt cx="3187800" cy="990720"/>
          </a:xfrm>
        </p:grpSpPr>
        <p:sp>
          <p:nvSpPr>
            <p:cNvPr id="217" name=""/>
            <p:cNvSpPr/>
            <p:nvPr/>
          </p:nvSpPr>
          <p:spPr>
            <a:xfrm>
              <a:off x="1841400" y="1155600"/>
              <a:ext cx="355680" cy="343080"/>
            </a:xfrm>
            <a:prstGeom prst="roundRect">
              <a:avLst>
                <a:gd name="adj" fmla="val 16667"/>
              </a:avLst>
            </a:prstGeom>
            <a:noFill/>
            <a:ln w="22320">
              <a:solidFill>
                <a:srgbClr val="8faf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895480" y="507960"/>
              <a:ext cx="2133720" cy="349200"/>
            </a:xfrm>
            <a:prstGeom prst="wedgeRoundRectCallout">
              <a:avLst>
                <a:gd name="adj1" fmla="val -84226"/>
                <a:gd name="adj2" fmla="val 130907"/>
                <a:gd name="adj3" fmla="val 16667"/>
              </a:avLst>
            </a:prstGeom>
            <a:solidFill>
              <a:srgbClr val="8fafb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LE for Process Contr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2843280" y="404640"/>
            <a:ext cx="4465440" cy="1105200"/>
            <a:chOff x="2843280" y="404640"/>
            <a:chExt cx="4465440" cy="1105200"/>
          </a:xfrm>
        </p:grpSpPr>
        <p:sp>
          <p:nvSpPr>
            <p:cNvPr id="220" name=""/>
            <p:cNvSpPr/>
            <p:nvPr/>
          </p:nvSpPr>
          <p:spPr>
            <a:xfrm>
              <a:off x="2843280" y="1192320"/>
              <a:ext cx="596880" cy="317520"/>
            </a:xfrm>
            <a:prstGeom prst="roundRect">
              <a:avLst>
                <a:gd name="adj" fmla="val 16667"/>
              </a:avLst>
            </a:prstGeom>
            <a:noFill/>
            <a:ln w="22320">
              <a:solidFill>
                <a:srgbClr val="8faf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402000" y="404640"/>
              <a:ext cx="3906720" cy="533520"/>
            </a:xfrm>
            <a:prstGeom prst="wedgeRoundRectCallout">
              <a:avLst>
                <a:gd name="adj1" fmla="val -56990"/>
                <a:gd name="adj2" fmla="val 92263"/>
                <a:gd name="adj3" fmla="val 16667"/>
              </a:avLst>
            </a:prstGeom>
            <a:solidFill>
              <a:srgbClr val="8fafb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ta exchange with the Flexible Animation Builder for visualization purpos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AB1AC-3DBF-46F1-9EB5-0EE0B426704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5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1" dur="1" fill="hold">
                                    <p:stCondLst>
                                      <p:cond delay="5000"/>
                                    </p:stCondLst>
                                  </p:cTn>
                                  <p:tgtEl>
                                    <p:spTgt spid="2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70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6" dur="1" fill="hold">
                                    <p:stCondLst>
                                      <p:cond delay="6000"/>
                                    </p:stCondLst>
                                  </p:cTn>
                                  <p:tgtEl>
                                    <p:spTgt spid="2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35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0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2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63" dur="1" fill="hold"/>
                                  <p:tgtEl>
                                    <p:spTgt spid="2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39625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oft-PLC under BOR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7619760" cy="5743440"/>
          </a:xfrm>
          <a:prstGeom prst="rect">
            <a:avLst/>
          </a:prstGeom>
          <a:ln w="0">
            <a:noFill/>
          </a:ln>
        </p:spPr>
      </p:pic>
      <p:grpSp>
        <p:nvGrpSpPr>
          <p:cNvPr id="224" name=""/>
          <p:cNvGrpSpPr/>
          <p:nvPr/>
        </p:nvGrpSpPr>
        <p:grpSpPr>
          <a:xfrm>
            <a:off x="1600200" y="3200400"/>
            <a:ext cx="3276360" cy="838080"/>
            <a:chOff x="1600200" y="3200400"/>
            <a:chExt cx="3276360" cy="838080"/>
          </a:xfrm>
        </p:grpSpPr>
        <p:sp>
          <p:nvSpPr>
            <p:cNvPr id="225" name=""/>
            <p:cNvSpPr/>
            <p:nvPr/>
          </p:nvSpPr>
          <p:spPr>
            <a:xfrm>
              <a:off x="1752480" y="3200400"/>
              <a:ext cx="2895480" cy="320040"/>
            </a:xfrm>
            <a:prstGeom prst="wedgeRoundRectCallout">
              <a:avLst>
                <a:gd name="adj1" fmla="val -78726"/>
                <a:gd name="adj2" fmla="val 367273"/>
                <a:gd name="adj3" fmla="val 16667"/>
              </a:avLst>
            </a:prstGeom>
            <a:solidFill>
              <a:srgbClr val="8fa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676160" y="3270240"/>
              <a:ext cx="2895840" cy="249840"/>
            </a:xfrm>
            <a:prstGeom prst="wedgeRoundRectCallout">
              <a:avLst>
                <a:gd name="adj1" fmla="val -76537"/>
                <a:gd name="adj2" fmla="val 846513"/>
                <a:gd name="adj3" fmla="val 16667"/>
              </a:avLst>
            </a:prstGeom>
            <a:solidFill>
              <a:srgbClr val="8fa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600200" y="3200400"/>
              <a:ext cx="3276360" cy="838080"/>
            </a:xfrm>
            <a:prstGeom prst="wedgeRoundRectCallout">
              <a:avLst>
                <a:gd name="adj1" fmla="val -29652"/>
                <a:gd name="adj2" fmla="val 49652"/>
                <a:gd name="adj3" fmla="val 16667"/>
              </a:avLst>
            </a:prstGeom>
            <a:solidFill>
              <a:srgbClr val="8fa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uring the debugging process 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- breakpo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 current row of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2454120" y="380160"/>
            <a:ext cx="2909880" cy="576360"/>
          </a:xfrm>
          <a:prstGeom prst="roundRect">
            <a:avLst>
              <a:gd name="adj" fmla="val 16667"/>
            </a:avLst>
          </a:prstGeom>
          <a:solidFill>
            <a:srgbClr val="8faf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re is no limitation to the number of PLC blo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1040" y="380160"/>
            <a:ext cx="3271320" cy="576360"/>
          </a:xfrm>
          <a:prstGeom prst="roundRect">
            <a:avLst>
              <a:gd name="adj" fmla="val 16667"/>
            </a:avLst>
          </a:prstGeom>
          <a:solidFill>
            <a:srgbClr val="8faf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DE, OPC, FAB and hardware dri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y corresponding blo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0A700-C0D8-490A-A0AE-6CE92CACA1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5" dur="1" fill="hold">
                                    <p:stCondLst>
                                      <p:cond delay="6000"/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8000"/>
                            </p:stCondLst>
                            <p:childTnLst>
                              <p:par>
                                <p:cTn id="277" nodeType="afterEffect" fill="hold" presetClass="entr" presetID="2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0" dur="1" fill="hold">
                                    <p:stCondLst>
                                      <p:cond delay="5000"/>
                                    </p:stCondLst>
                                  </p:cTn>
                                  <p:tgtEl>
                                    <p:spTgt spid="2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83" dur="1" fill="hold"/>
                                  <p:tgtEl>
                                    <p:spTgt spid="2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6934320" cy="56991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trol and display elements (selectio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DAD8E-299C-4EA1-9C3E-82D9BF3298F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971440" y="227520"/>
            <a:ext cx="2971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304920" y="1219320"/>
            <a:ext cx="3124080" cy="4647960"/>
            <a:chOff x="304920" y="1219320"/>
            <a:chExt cx="3124080" cy="4647960"/>
          </a:xfrm>
        </p:grpSpPr>
        <p:sp>
          <p:nvSpPr>
            <p:cNvPr id="234" name=""/>
            <p:cNvSpPr/>
            <p:nvPr/>
          </p:nvSpPr>
          <p:spPr>
            <a:xfrm>
              <a:off x="304920" y="1219320"/>
              <a:ext cx="3124080" cy="4647960"/>
            </a:xfrm>
            <a:prstGeom prst="rect">
              <a:avLst/>
            </a:prstGeom>
            <a:solidFill>
              <a:srgbClr val="8fafbe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04920" y="1752480"/>
              <a:ext cx="3124080" cy="54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Stand-Alo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495000" y="2655720"/>
            <a:ext cx="2132280" cy="730440"/>
            <a:chOff x="495000" y="2655720"/>
            <a:chExt cx="2132280" cy="730440"/>
          </a:xfrm>
        </p:grpSpPr>
        <p:sp>
          <p:nvSpPr>
            <p:cNvPr id="237" name=""/>
            <p:cNvSpPr/>
            <p:nvPr/>
          </p:nvSpPr>
          <p:spPr>
            <a:xfrm>
              <a:off x="762120" y="2655720"/>
              <a:ext cx="186516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olution of primaril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pen loop control proble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5400000">
              <a:off x="494640" y="2679480"/>
              <a:ext cx="152640" cy="152280"/>
            </a:xfrm>
            <a:prstGeom prst="triangle">
              <a:avLst>
                <a:gd name="adj" fmla="val 55171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507600" y="3801240"/>
            <a:ext cx="1812960" cy="487080"/>
            <a:chOff x="507600" y="3801240"/>
            <a:chExt cx="1812960" cy="487080"/>
          </a:xfrm>
        </p:grpSpPr>
        <p:sp>
          <p:nvSpPr>
            <p:cNvPr id="240" name=""/>
            <p:cNvSpPr/>
            <p:nvPr/>
          </p:nvSpPr>
          <p:spPr>
            <a:xfrm>
              <a:off x="759240" y="3801240"/>
              <a:ext cx="15613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nly one P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stance possi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5400000">
              <a:off x="507240" y="3830400"/>
              <a:ext cx="152640" cy="152280"/>
            </a:xfrm>
            <a:prstGeom prst="triangle">
              <a:avLst>
                <a:gd name="adj" fmla="val 55171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507600" y="4826880"/>
            <a:ext cx="1958400" cy="487080"/>
            <a:chOff x="507600" y="4826880"/>
            <a:chExt cx="1958400" cy="487080"/>
          </a:xfrm>
        </p:grpSpPr>
        <p:sp>
          <p:nvSpPr>
            <p:cNvPr id="243" name=""/>
            <p:cNvSpPr/>
            <p:nvPr/>
          </p:nvSpPr>
          <p:spPr>
            <a:xfrm>
              <a:off x="758520" y="4826880"/>
              <a:ext cx="170748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ignal condition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ithin the P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5400000">
              <a:off x="507600" y="4851720"/>
              <a:ext cx="152280" cy="152280"/>
            </a:xfrm>
            <a:prstGeom prst="triangle">
              <a:avLst>
                <a:gd name="adj" fmla="val 55171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5638680" y="1219320"/>
            <a:ext cx="3124440" cy="4647960"/>
          </a:xfrm>
          <a:prstGeom prst="rect">
            <a:avLst/>
          </a:prstGeom>
          <a:solidFill>
            <a:srgbClr val="8fafbe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638680" y="1752480"/>
            <a:ext cx="3124440" cy="5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ORIS b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5867280" y="2655720"/>
            <a:ext cx="2808360" cy="730440"/>
            <a:chOff x="5867280" y="2655720"/>
            <a:chExt cx="2808360" cy="730440"/>
          </a:xfrm>
        </p:grpSpPr>
        <p:sp>
          <p:nvSpPr>
            <p:cNvPr id="248" name=""/>
            <p:cNvSpPr/>
            <p:nvPr/>
          </p:nvSpPr>
          <p:spPr>
            <a:xfrm>
              <a:off x="6156360" y="2655720"/>
              <a:ext cx="251928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olution of open loop and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osed loop control proble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5400000">
              <a:off x="5867280" y="2692080"/>
              <a:ext cx="152640" cy="152640"/>
            </a:xfrm>
            <a:prstGeom prst="triangle">
              <a:avLst>
                <a:gd name="adj" fmla="val 55171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5867280" y="3800880"/>
            <a:ext cx="2077560" cy="243720"/>
            <a:chOff x="5867280" y="3800880"/>
            <a:chExt cx="2077560" cy="243720"/>
          </a:xfrm>
        </p:grpSpPr>
        <p:sp>
          <p:nvSpPr>
            <p:cNvPr id="251" name=""/>
            <p:cNvSpPr/>
            <p:nvPr/>
          </p:nvSpPr>
          <p:spPr>
            <a:xfrm>
              <a:off x="6170040" y="3800880"/>
              <a:ext cx="1774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veral PLC block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5400000">
              <a:off x="5867280" y="3825720"/>
              <a:ext cx="152640" cy="152640"/>
            </a:xfrm>
            <a:prstGeom prst="triangle">
              <a:avLst>
                <a:gd name="adj" fmla="val 55171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5867280" y="4827600"/>
            <a:ext cx="2065680" cy="730440"/>
            <a:chOff x="5867280" y="4827600"/>
            <a:chExt cx="2065680" cy="730440"/>
          </a:xfrm>
        </p:grpSpPr>
        <p:sp>
          <p:nvSpPr>
            <p:cNvPr id="254" name=""/>
            <p:cNvSpPr/>
            <p:nvPr/>
          </p:nvSpPr>
          <p:spPr>
            <a:xfrm>
              <a:off x="6168960" y="4827600"/>
              <a:ext cx="176400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ignal conditioni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ithin the PLC 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y BORIS block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5400000">
              <a:off x="5867280" y="4863960"/>
              <a:ext cx="152280" cy="152640"/>
            </a:xfrm>
            <a:prstGeom prst="triangle">
              <a:avLst>
                <a:gd name="adj" fmla="val 55171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3327480" y="2666880"/>
            <a:ext cx="2438280" cy="2922840"/>
            <a:chOff x="3327480" y="2666880"/>
            <a:chExt cx="2438280" cy="2922840"/>
          </a:xfrm>
        </p:grpSpPr>
        <p:sp>
          <p:nvSpPr>
            <p:cNvPr id="257" name=""/>
            <p:cNvSpPr/>
            <p:nvPr/>
          </p:nvSpPr>
          <p:spPr>
            <a:xfrm>
              <a:off x="3327480" y="2666880"/>
              <a:ext cx="2438280" cy="2922840"/>
            </a:xfrm>
            <a:prstGeom prst="rect">
              <a:avLst/>
            </a:prstGeom>
            <a:solidFill>
              <a:srgbClr val="8fafbe"/>
            </a:solidFill>
            <a:ln w="0">
              <a:noFill/>
            </a:ln>
            <a:effectLst>
              <a:outerShdw dist="17819" dir="2700000" blurRad="0" rotWithShape="0">
                <a:srgbClr val="5568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327480" y="2933640"/>
              <a:ext cx="243828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Common featur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3416400" y="3467520"/>
              <a:ext cx="732960" cy="243720"/>
              <a:chOff x="3416400" y="3467520"/>
              <a:chExt cx="732960" cy="243720"/>
            </a:xfrm>
          </p:grpSpPr>
          <p:sp>
            <p:nvSpPr>
              <p:cNvPr id="260" name=""/>
              <p:cNvSpPr/>
              <p:nvPr/>
            </p:nvSpPr>
            <p:spPr>
              <a:xfrm>
                <a:off x="3720240" y="3467520"/>
                <a:ext cx="429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5400000">
                <a:off x="3416400" y="3492360"/>
                <a:ext cx="152640" cy="152640"/>
              </a:xfrm>
              <a:prstGeom prst="triangle">
                <a:avLst>
                  <a:gd name="adj" fmla="val 55171"/>
                </a:avLst>
              </a:prstGeom>
              <a:solidFill>
                <a:srgbClr val="ffcc00"/>
              </a:solidFill>
              <a:ln w="0">
                <a:noFill/>
              </a:ln>
              <a:effectLst>
                <a:outerShdw dist="17819" dir="2700000" blurRad="0" rotWithShape="0">
                  <a:srgbClr val="9879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3429000" y="3848400"/>
              <a:ext cx="744480" cy="243720"/>
              <a:chOff x="3429000" y="3848400"/>
              <a:chExt cx="744480" cy="243720"/>
            </a:xfrm>
          </p:grpSpPr>
          <p:sp>
            <p:nvSpPr>
              <p:cNvPr id="263" name=""/>
              <p:cNvSpPr/>
              <p:nvPr/>
            </p:nvSpPr>
            <p:spPr>
              <a:xfrm>
                <a:off x="3733920" y="3848400"/>
                <a:ext cx="439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OP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5400000">
                <a:off x="3429000" y="3873240"/>
                <a:ext cx="152640" cy="152640"/>
              </a:xfrm>
              <a:prstGeom prst="triangle">
                <a:avLst>
                  <a:gd name="adj" fmla="val 55171"/>
                </a:avLst>
              </a:prstGeom>
              <a:solidFill>
                <a:srgbClr val="ffcc00"/>
              </a:solidFill>
              <a:ln w="0">
                <a:noFill/>
              </a:ln>
              <a:effectLst>
                <a:outerShdw dist="17819" dir="2700000" blurRad="0" rotWithShape="0">
                  <a:srgbClr val="9879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3441600" y="4242240"/>
              <a:ext cx="699480" cy="243720"/>
              <a:chOff x="3441600" y="4242240"/>
              <a:chExt cx="699480" cy="243720"/>
            </a:xfrm>
          </p:grpSpPr>
          <p:sp>
            <p:nvSpPr>
              <p:cNvPr id="266" name=""/>
              <p:cNvSpPr/>
              <p:nvPr/>
            </p:nvSpPr>
            <p:spPr>
              <a:xfrm>
                <a:off x="3745800" y="4242240"/>
                <a:ext cx="395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FA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5400000">
                <a:off x="3441600" y="4267080"/>
                <a:ext cx="152640" cy="152640"/>
              </a:xfrm>
              <a:prstGeom prst="triangle">
                <a:avLst>
                  <a:gd name="adj" fmla="val 55171"/>
                </a:avLst>
              </a:prstGeom>
              <a:solidFill>
                <a:srgbClr val="ffcc00"/>
              </a:solidFill>
              <a:ln w="0">
                <a:noFill/>
              </a:ln>
              <a:effectLst>
                <a:outerShdw dist="17819" dir="2700000" blurRad="0" rotWithShape="0">
                  <a:srgbClr val="9879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3441600" y="4646520"/>
              <a:ext cx="2256840" cy="730440"/>
              <a:chOff x="3441600" y="4646520"/>
              <a:chExt cx="2256840" cy="730440"/>
            </a:xfrm>
          </p:grpSpPr>
          <p:sp>
            <p:nvSpPr>
              <p:cNvPr id="269" name=""/>
              <p:cNvSpPr/>
              <p:nvPr/>
            </p:nvSpPr>
            <p:spPr>
              <a:xfrm>
                <a:off x="3750120" y="4646520"/>
                <a:ext cx="1948320" cy="73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Hardware I/O-suppor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by specific hardwa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river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5400000">
                <a:off x="3441600" y="4673520"/>
                <a:ext cx="152640" cy="152640"/>
              </a:xfrm>
              <a:prstGeom prst="triangle">
                <a:avLst>
                  <a:gd name="adj" fmla="val 55171"/>
                </a:avLst>
              </a:prstGeom>
              <a:solidFill>
                <a:srgbClr val="ffcc00"/>
              </a:solidFill>
              <a:ln w="0">
                <a:noFill/>
              </a:ln>
              <a:effectLst>
                <a:outerShdw dist="17819" dir="2700000" blurRad="0" rotWithShape="0">
                  <a:srgbClr val="9879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1" name=""/>
          <p:cNvSpPr/>
          <p:nvPr/>
        </p:nvSpPr>
        <p:spPr>
          <a:xfrm>
            <a:off x="2806560" y="762120"/>
            <a:ext cx="3505320" cy="609480"/>
          </a:xfrm>
          <a:prstGeom prst="rect">
            <a:avLst/>
          </a:prstGeom>
          <a:solidFill>
            <a:srgbClr val="8faf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oft-PL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1BB1F-62E0-4E0F-8B98-858D11B16C3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9T16:10:17Z</dcterms:created>
  <dc:creator>Kahlert</dc:creator>
  <dc:description/>
  <dc:language>en-US</dc:language>
  <cp:lastModifiedBy>Dietlind Auerbach</cp:lastModifiedBy>
  <dcterms:modified xsi:type="dcterms:W3CDTF">2004-08-09T07:53:24Z</dcterms:modified>
  <cp:revision>229</cp:revision>
  <dc:subject/>
  <dc:title>Kein Folientitel</dc:title>
</cp:coreProperties>
</file>