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5857-05C4-4D0B-A80D-A4CAE4A32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2E71-1C78-4CD2-8201-C3E966C79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3A10-C307-446D-8D4E-105A9240A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E8CB-FC71-45B7-8EE0-64EF64CD9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3450-8FF7-4B5F-AF7B-58164EA21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EBF7-1A0C-47EA-9279-E6434773B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EAEB-DFA7-4D23-B3F1-11584E40C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EDC7-96F4-418B-B97C-16374C6FB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F79D-4DAC-49C2-9486-1A1FCA25D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861D-9493-4F0C-A234-88F7FE71E5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C084-6CF1-4325-B942-6371D7C0E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AE71-4E48-4367-AFB1-5B1F7210B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5638680" y="655308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Ingenieurbüro Dr. Kahlert  2004      </a:t>
            </a:r>
            <a:fld id="{F6F86019-8A4B-43AE-935F-F7AEFCEB8A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20574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 rot="16200000">
            <a:off x="-1638720" y="2628720"/>
            <a:ext cx="51818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0" spc="-1" strike="noStrike">
                <a:solidFill>
                  <a:srgbClr val="ffcc00"/>
                </a:solidFill>
                <a:latin typeface="Arial"/>
              </a:rPr>
              <a:t>WinFACT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191120" y="228600"/>
            <a:ext cx="22096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 - 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12800" y="838080"/>
            <a:ext cx="7149960" cy="5705280"/>
            <a:chOff x="1612800" y="838080"/>
            <a:chExt cx="7149960" cy="5705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612800" y="838080"/>
              <a:ext cx="7149960" cy="40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515400" y="2912760"/>
              <a:ext cx="5099760" cy="363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C0B6-1E2E-4468-BD89-AAC6DC9AAE1F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047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stungsmerkma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04920" y="939960"/>
            <a:ext cx="6476760" cy="2895480"/>
            <a:chOff x="304920" y="939960"/>
            <a:chExt cx="6476760" cy="2895480"/>
          </a:xfrm>
        </p:grpSpPr>
        <p:sp>
          <p:nvSpPr>
            <p:cNvPr id="47" name=""/>
            <p:cNvSpPr/>
            <p:nvPr/>
          </p:nvSpPr>
          <p:spPr>
            <a:xfrm>
              <a:off x="533520" y="1168560"/>
              <a:ext cx="6248160" cy="2666880"/>
            </a:xfrm>
            <a:prstGeom prst="rect">
              <a:avLst/>
            </a:prstGeom>
            <a:solidFill>
              <a:srgbClr val="8fafbe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920" y="939960"/>
              <a:ext cx="2819160" cy="304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ntwicklungsumgeb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04920" y="4038480"/>
            <a:ext cx="6476760" cy="2133720"/>
            <a:chOff x="304920" y="4038480"/>
            <a:chExt cx="6476760" cy="2133720"/>
          </a:xfrm>
        </p:grpSpPr>
        <p:sp>
          <p:nvSpPr>
            <p:cNvPr id="50" name=""/>
            <p:cNvSpPr/>
            <p:nvPr/>
          </p:nvSpPr>
          <p:spPr>
            <a:xfrm>
              <a:off x="533520" y="4267080"/>
              <a:ext cx="6248160" cy="1905120"/>
            </a:xfrm>
            <a:prstGeom prst="rect">
              <a:avLst/>
            </a:prstGeom>
            <a:solidFill>
              <a:srgbClr val="8fafbe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4038480"/>
              <a:ext cx="2819160" cy="3049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L (Anweisungslist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85800" y="1828440"/>
            <a:ext cx="5384160" cy="337320"/>
            <a:chOff x="685800" y="1828440"/>
            <a:chExt cx="5384160" cy="337320"/>
          </a:xfrm>
        </p:grpSpPr>
        <p:sp>
          <p:nvSpPr>
            <p:cNvPr id="53" name=""/>
            <p:cNvSpPr/>
            <p:nvPr/>
          </p:nvSpPr>
          <p:spPr>
            <a:xfrm>
              <a:off x="1154160" y="1828440"/>
              <a:ext cx="491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lligente automatische Codevervollständig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723600" y="185256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85800" y="2234880"/>
            <a:ext cx="2489400" cy="337320"/>
            <a:chOff x="685800" y="2234880"/>
            <a:chExt cx="2489400" cy="337320"/>
          </a:xfrm>
        </p:grpSpPr>
        <p:sp>
          <p:nvSpPr>
            <p:cNvPr id="56" name=""/>
            <p:cNvSpPr/>
            <p:nvPr/>
          </p:nvSpPr>
          <p:spPr>
            <a:xfrm>
              <a:off x="1147320" y="2234880"/>
              <a:ext cx="202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hneller Compi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723600" y="225900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85800" y="2641680"/>
            <a:ext cx="6069240" cy="580680"/>
            <a:chOff x="685800" y="2641680"/>
            <a:chExt cx="6069240" cy="580680"/>
          </a:xfrm>
        </p:grpSpPr>
        <p:sp>
          <p:nvSpPr>
            <p:cNvPr id="59" name=""/>
            <p:cNvSpPr/>
            <p:nvPr/>
          </p:nvSpPr>
          <p:spPr>
            <a:xfrm>
              <a:off x="1152000" y="2641680"/>
              <a:ext cx="5603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buggingmöglichkeiten wie Haltepunkte, Variablen 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swertung und Aufspüren von Speicherveränder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723600" y="27874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5800" y="3301560"/>
            <a:ext cx="3073320" cy="337320"/>
            <a:chOff x="685800" y="3301560"/>
            <a:chExt cx="3073320" cy="337320"/>
          </a:xfrm>
        </p:grpSpPr>
        <p:sp>
          <p:nvSpPr>
            <p:cNvPr id="62" name=""/>
            <p:cNvSpPr/>
            <p:nvPr/>
          </p:nvSpPr>
          <p:spPr>
            <a:xfrm>
              <a:off x="1147680" y="3301560"/>
              <a:ext cx="261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eichern von Ansich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723600" y="33256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5800" y="4495320"/>
            <a:ext cx="3886560" cy="337320"/>
            <a:chOff x="685800" y="4495320"/>
            <a:chExt cx="3886560" cy="337320"/>
          </a:xfrm>
        </p:grpSpPr>
        <p:sp>
          <p:nvSpPr>
            <p:cNvPr id="65" name=""/>
            <p:cNvSpPr/>
            <p:nvPr/>
          </p:nvSpPr>
          <p:spPr>
            <a:xfrm>
              <a:off x="1148400" y="4495320"/>
              <a:ext cx="342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fehle entsprechen IEC 61131-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723600" y="451944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4876560"/>
            <a:ext cx="3119400" cy="337320"/>
            <a:chOff x="685800" y="4876560"/>
            <a:chExt cx="3119400" cy="337320"/>
          </a:xfrm>
        </p:grpSpPr>
        <p:sp>
          <p:nvSpPr>
            <p:cNvPr id="68" name=""/>
            <p:cNvSpPr/>
            <p:nvPr/>
          </p:nvSpPr>
          <p:spPr>
            <a:xfrm>
              <a:off x="1150920" y="4876560"/>
              <a:ext cx="265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lizite Typumwandl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723600" y="49006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85800" y="5257440"/>
            <a:ext cx="3489480" cy="337320"/>
            <a:chOff x="685800" y="5257440"/>
            <a:chExt cx="3489480" cy="337320"/>
          </a:xfrm>
        </p:grpSpPr>
        <p:sp>
          <p:nvSpPr>
            <p:cNvPr id="71" name=""/>
            <p:cNvSpPr/>
            <p:nvPr/>
          </p:nvSpPr>
          <p:spPr>
            <a:xfrm>
              <a:off x="1149120" y="5257440"/>
              <a:ext cx="30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ndard Funktionsbauste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723600" y="528156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85800" y="5638320"/>
            <a:ext cx="5460480" cy="337320"/>
            <a:chOff x="685800" y="5638320"/>
            <a:chExt cx="5460480" cy="337320"/>
          </a:xfrm>
        </p:grpSpPr>
        <p:sp>
          <p:nvSpPr>
            <p:cNvPr id="74" name=""/>
            <p:cNvSpPr/>
            <p:nvPr/>
          </p:nvSpPr>
          <p:spPr>
            <a:xfrm>
              <a:off x="1152720" y="5638320"/>
              <a:ext cx="499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snahme- und Fehlerbehandlungsmöglichkei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723600" y="566244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85440" y="1447560"/>
            <a:ext cx="2666880" cy="337320"/>
            <a:chOff x="685440" y="1447560"/>
            <a:chExt cx="2666880" cy="337320"/>
          </a:xfrm>
        </p:grpSpPr>
        <p:sp>
          <p:nvSpPr>
            <p:cNvPr id="77" name=""/>
            <p:cNvSpPr/>
            <p:nvPr/>
          </p:nvSpPr>
          <p:spPr>
            <a:xfrm>
              <a:off x="1146240" y="1447560"/>
              <a:ext cx="220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ntaxhervorheb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723600" y="1471680"/>
              <a:ext cx="228600" cy="30492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AC10-D217-4174-A247-BCDEF502FD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6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9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38098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wicklungsumgeb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7162920" cy="5721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57800" y="5105520"/>
            <a:ext cx="2666880" cy="609480"/>
          </a:xfrm>
          <a:prstGeom prst="wedgeRoundRectCallout">
            <a:avLst>
              <a:gd name="adj1" fmla="val -152620"/>
              <a:gd name="adj2" fmla="val -523439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or mit Syntaxhervorheb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057400" y="2286000"/>
            <a:ext cx="4800600" cy="3124080"/>
            <a:chOff x="2057400" y="2286000"/>
            <a:chExt cx="4800600" cy="31240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2057400" y="3505320"/>
              <a:ext cx="150480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657600" y="2286000"/>
              <a:ext cx="3200400" cy="457200"/>
            </a:xfrm>
            <a:prstGeom prst="wedgeRoundRectCallout">
              <a:avLst>
                <a:gd name="adj1" fmla="val -79564"/>
                <a:gd name="adj2" fmla="val 215972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omatische Codevervollständig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90920" y="609480"/>
            <a:ext cx="4647960" cy="838440"/>
            <a:chOff x="2590920" y="609480"/>
            <a:chExt cx="4647960" cy="838440"/>
          </a:xfrm>
        </p:grpSpPr>
        <p:sp>
          <p:nvSpPr>
            <p:cNvPr id="86" name=""/>
            <p:cNvSpPr/>
            <p:nvPr/>
          </p:nvSpPr>
          <p:spPr>
            <a:xfrm>
              <a:off x="2590920" y="1219320"/>
              <a:ext cx="914400" cy="22860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5320" y="609480"/>
              <a:ext cx="3733560" cy="381240"/>
            </a:xfrm>
            <a:prstGeom prst="wedgeRoundRectCallout">
              <a:avLst>
                <a:gd name="adj1" fmla="val -62754"/>
                <a:gd name="adj2" fmla="val 109166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altflächen für den Debuggingbetrieb…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038480" y="533520"/>
            <a:ext cx="4572000" cy="914400"/>
            <a:chOff x="4038480" y="533520"/>
            <a:chExt cx="4572000" cy="914400"/>
          </a:xfrm>
        </p:grpSpPr>
        <p:sp>
          <p:nvSpPr>
            <p:cNvPr id="89" name=""/>
            <p:cNvSpPr/>
            <p:nvPr/>
          </p:nvSpPr>
          <p:spPr>
            <a:xfrm>
              <a:off x="4572000" y="533520"/>
              <a:ext cx="4038480" cy="457200"/>
            </a:xfrm>
            <a:prstGeom prst="wedgeRoundRectCallout">
              <a:avLst>
                <a:gd name="adj1" fmla="val -55819"/>
                <a:gd name="adj2" fmla="val 96527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 das schnelle Anzeigen und Verbergen der weiteren Fenster wie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38480" y="1219320"/>
              <a:ext cx="685800" cy="22860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85800" y="1219320"/>
            <a:ext cx="8381880" cy="4419360"/>
            <a:chOff x="685800" y="1219320"/>
            <a:chExt cx="8381880" cy="4419360"/>
          </a:xfrm>
        </p:grpSpPr>
        <p:grpSp>
          <p:nvGrpSpPr>
            <p:cNvPr id="92" name=""/>
            <p:cNvGrpSpPr/>
            <p:nvPr/>
          </p:nvGrpSpPr>
          <p:grpSpPr>
            <a:xfrm>
              <a:off x="685800" y="1219320"/>
              <a:ext cx="4038480" cy="3657600"/>
              <a:chOff x="685800" y="1219320"/>
              <a:chExt cx="4038480" cy="365760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685800" y="1219320"/>
                <a:ext cx="4038480" cy="3657600"/>
                <a:chOff x="685800" y="1219320"/>
                <a:chExt cx="4038480" cy="36576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4038480" y="1219320"/>
                  <a:ext cx="685800" cy="228600"/>
                </a:xfrm>
                <a:prstGeom prst="roundRect">
                  <a:avLst>
                    <a:gd name="adj" fmla="val 16667"/>
                  </a:avLst>
                </a:prstGeom>
                <a:noFill/>
                <a:ln w="22320">
                  <a:solidFill>
                    <a:srgbClr val="8fafb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85800" y="1752480"/>
                  <a:ext cx="2743200" cy="3124440"/>
                </a:xfrm>
                <a:prstGeom prst="wedgeRoundRectCallout">
                  <a:avLst>
                    <a:gd name="adj1" fmla="val 74768"/>
                    <a:gd name="adj2" fmla="val -61078"/>
                    <a:gd name="adj3" fmla="val 16667"/>
                  </a:avLst>
                </a:prstGeom>
                <a:solidFill>
                  <a:srgbClr val="8fafb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88840" y="1879560"/>
                <a:ext cx="2370240" cy="2806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" name=""/>
            <p:cNvGrpSpPr/>
            <p:nvPr/>
          </p:nvGrpSpPr>
          <p:grpSpPr>
            <a:xfrm>
              <a:off x="3505320" y="1219320"/>
              <a:ext cx="2743200" cy="4419360"/>
              <a:chOff x="3505320" y="1219320"/>
              <a:chExt cx="2743200" cy="4419360"/>
            </a:xfrm>
          </p:grpSpPr>
          <p:sp>
            <p:nvSpPr>
              <p:cNvPr id="98" name=""/>
              <p:cNvSpPr/>
              <p:nvPr/>
            </p:nvSpPr>
            <p:spPr>
              <a:xfrm>
                <a:off x="4038480" y="1219320"/>
                <a:ext cx="685800" cy="228600"/>
              </a:xfrm>
              <a:prstGeom prst="roundRect">
                <a:avLst>
                  <a:gd name="adj" fmla="val 16667"/>
                </a:avLst>
              </a:prstGeom>
              <a:noFill/>
              <a:ln w="22320">
                <a:solidFill>
                  <a:srgbClr val="8faf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3505320" y="2514600"/>
                <a:ext cx="2743200" cy="3124080"/>
                <a:chOff x="3505320" y="2514600"/>
                <a:chExt cx="2743200" cy="31240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3505320" y="2514600"/>
                  <a:ext cx="2743200" cy="3124080"/>
                </a:xfrm>
                <a:prstGeom prst="wedgeRoundRectCallout">
                  <a:avLst>
                    <a:gd name="adj1" fmla="val -18865"/>
                    <a:gd name="adj2" fmla="val -85314"/>
                    <a:gd name="adj3" fmla="val 16667"/>
                  </a:avLst>
                </a:prstGeom>
                <a:solidFill>
                  <a:srgbClr val="8fafb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720960" y="2679840"/>
                  <a:ext cx="2372040" cy="2781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2" name=""/>
            <p:cNvGrpSpPr/>
            <p:nvPr/>
          </p:nvGrpSpPr>
          <p:grpSpPr>
            <a:xfrm>
              <a:off x="4038480" y="1219320"/>
              <a:ext cx="5029200" cy="3352680"/>
              <a:chOff x="4038480" y="1219320"/>
              <a:chExt cx="5029200" cy="3352680"/>
            </a:xfrm>
          </p:grpSpPr>
          <p:sp>
            <p:nvSpPr>
              <p:cNvPr id="103" name=""/>
              <p:cNvSpPr/>
              <p:nvPr/>
            </p:nvSpPr>
            <p:spPr>
              <a:xfrm>
                <a:off x="4038480" y="1219320"/>
                <a:ext cx="685800" cy="228600"/>
              </a:xfrm>
              <a:prstGeom prst="roundRect">
                <a:avLst>
                  <a:gd name="adj" fmla="val 16667"/>
                </a:avLst>
              </a:prstGeom>
              <a:noFill/>
              <a:ln w="22320">
                <a:solidFill>
                  <a:srgbClr val="8faf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324480" y="1447920"/>
                <a:ext cx="2743200" cy="3124080"/>
              </a:xfrm>
              <a:prstGeom prst="wedgeRoundRectCallout">
                <a:avLst>
                  <a:gd name="adj1" fmla="val -113310"/>
                  <a:gd name="adj2" fmla="val -51523"/>
                  <a:gd name="adj3" fmla="val 16667"/>
                </a:avLst>
              </a:prstGeom>
              <a:solidFill>
                <a:srgbClr val="8fafb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02320" y="1619280"/>
                <a:ext cx="2371680" cy="278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" name=""/>
          <p:cNvSpPr/>
          <p:nvPr/>
        </p:nvSpPr>
        <p:spPr>
          <a:xfrm>
            <a:off x="3048120" y="1752480"/>
            <a:ext cx="5105160" cy="304920"/>
          </a:xfrm>
          <a:prstGeom prst="wedgeRoundRectCallout">
            <a:avLst>
              <a:gd name="adj1" fmla="val 8828"/>
              <a:gd name="adj2" fmla="val -163541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ichern der Ansicht der Entwicklungsumgebung sowi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8320" y="1676520"/>
            <a:ext cx="1981080" cy="380880"/>
          </a:xfrm>
          <a:prstGeom prst="wedgeRoundRectCallout">
            <a:avLst>
              <a:gd name="adj1" fmla="val 32370"/>
              <a:gd name="adj2" fmla="val -120833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öschen und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676520"/>
            <a:ext cx="2209680" cy="380880"/>
          </a:xfrm>
          <a:prstGeom prst="wedgeRoundRectCallout">
            <a:avLst>
              <a:gd name="adj1" fmla="val -23851"/>
              <a:gd name="adj2" fmla="val -130833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nstellen der Ansic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410080"/>
            <a:ext cx="3733560" cy="349200"/>
          </a:xfrm>
          <a:prstGeom prst="wedgeRoundRectCallout">
            <a:avLst>
              <a:gd name="adj1" fmla="val -34185"/>
              <a:gd name="adj2" fmla="val 112500"/>
              <a:gd name="adj3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ldungsfenster für Compilermeld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8C08-1392-4885-B734-B9DCEC4936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2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7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7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914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84080" y="5483160"/>
            <a:ext cx="7648560" cy="531720"/>
            <a:chOff x="784080" y="5483160"/>
            <a:chExt cx="7648560" cy="531720"/>
          </a:xfrm>
        </p:grpSpPr>
        <p:sp>
          <p:nvSpPr>
            <p:cNvPr id="112" name=""/>
            <p:cNvSpPr/>
            <p:nvPr/>
          </p:nvSpPr>
          <p:spPr>
            <a:xfrm>
              <a:off x="4191120" y="5483160"/>
              <a:ext cx="4241520" cy="5302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2000"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0..49d_17h_2m_47s_295ms; Auflösung 1 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84360" y="5483160"/>
              <a:ext cx="1709640" cy="5302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32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84080" y="5486400"/>
              <a:ext cx="1710000" cy="528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74720" y="4954680"/>
            <a:ext cx="7657920" cy="533160"/>
            <a:chOff x="774720" y="4954680"/>
            <a:chExt cx="7657920" cy="533160"/>
          </a:xfrm>
        </p:grpSpPr>
        <p:sp>
          <p:nvSpPr>
            <p:cNvPr id="116" name=""/>
            <p:cNvSpPr/>
            <p:nvPr/>
          </p:nvSpPr>
          <p:spPr>
            <a:xfrm>
              <a:off x="4191120" y="4957920"/>
              <a:ext cx="4241520" cy="5252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-1.2E-38 .. 1.2E38; Genauigkeit (dezimal): 6 St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84360" y="4954680"/>
              <a:ext cx="1708200" cy="5331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32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4720" y="4954680"/>
              <a:ext cx="1709640" cy="528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RE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74720" y="4422600"/>
            <a:ext cx="7657920" cy="541440"/>
            <a:chOff x="774720" y="4422600"/>
            <a:chExt cx="7657920" cy="541440"/>
          </a:xfrm>
        </p:grpSpPr>
        <p:sp>
          <p:nvSpPr>
            <p:cNvPr id="120" name=""/>
            <p:cNvSpPr/>
            <p:nvPr/>
          </p:nvSpPr>
          <p:spPr>
            <a:xfrm>
              <a:off x="4197240" y="4422600"/>
              <a:ext cx="4235400" cy="53532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-2147483648..214748364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87600" y="4422600"/>
              <a:ext cx="1711440" cy="5414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32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4720" y="4422600"/>
              <a:ext cx="1712880" cy="53352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D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74720" y="3882960"/>
            <a:ext cx="7657920" cy="544680"/>
            <a:chOff x="774720" y="3882960"/>
            <a:chExt cx="7657920" cy="544680"/>
          </a:xfrm>
        </p:grpSpPr>
        <p:sp>
          <p:nvSpPr>
            <p:cNvPr id="124" name=""/>
            <p:cNvSpPr/>
            <p:nvPr/>
          </p:nvSpPr>
          <p:spPr>
            <a:xfrm>
              <a:off x="4191120" y="3882960"/>
              <a:ext cx="4241520" cy="5446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-32768..+3276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4360" y="3898800"/>
              <a:ext cx="1708200" cy="5288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16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720" y="3898800"/>
              <a:ext cx="1709640" cy="5288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74720" y="3367080"/>
            <a:ext cx="7657560" cy="536760"/>
            <a:chOff x="774720" y="3367080"/>
            <a:chExt cx="7657560" cy="536760"/>
          </a:xfrm>
        </p:grpSpPr>
        <p:sp>
          <p:nvSpPr>
            <p:cNvPr id="128" name=""/>
            <p:cNvSpPr/>
            <p:nvPr/>
          </p:nvSpPr>
          <p:spPr>
            <a:xfrm>
              <a:off x="4196520" y="3367080"/>
              <a:ext cx="4235760" cy="5367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0..42949672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86880" y="3367080"/>
              <a:ext cx="1710720" cy="5367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32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4720" y="3367080"/>
              <a:ext cx="1712160" cy="5367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DW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74720" y="2836800"/>
            <a:ext cx="7657920" cy="534960"/>
            <a:chOff x="774720" y="2836800"/>
            <a:chExt cx="7657920" cy="534960"/>
          </a:xfrm>
        </p:grpSpPr>
        <p:sp>
          <p:nvSpPr>
            <p:cNvPr id="132" name=""/>
            <p:cNvSpPr/>
            <p:nvPr/>
          </p:nvSpPr>
          <p:spPr>
            <a:xfrm>
              <a:off x="4191120" y="2836800"/>
              <a:ext cx="4241520" cy="5349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0..655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4360" y="2843280"/>
              <a:ext cx="1708200" cy="528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16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4720" y="2843280"/>
              <a:ext cx="1709640" cy="528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WO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74720" y="2397240"/>
            <a:ext cx="7657920" cy="446040"/>
            <a:chOff x="774720" y="2397240"/>
            <a:chExt cx="7657920" cy="446040"/>
          </a:xfrm>
        </p:grpSpPr>
        <p:sp>
          <p:nvSpPr>
            <p:cNvPr id="136" name=""/>
            <p:cNvSpPr/>
            <p:nvPr/>
          </p:nvSpPr>
          <p:spPr>
            <a:xfrm>
              <a:off x="4191120" y="2397240"/>
              <a:ext cx="4241520" cy="4460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0..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84360" y="2398680"/>
              <a:ext cx="1708200" cy="44460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8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4720" y="2398680"/>
              <a:ext cx="1709640" cy="44460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BY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74720" y="1951200"/>
            <a:ext cx="7657920" cy="447480"/>
            <a:chOff x="774720" y="1951200"/>
            <a:chExt cx="7657920" cy="447480"/>
          </a:xfrm>
        </p:grpSpPr>
        <p:sp>
          <p:nvSpPr>
            <p:cNvPr id="140" name=""/>
            <p:cNvSpPr/>
            <p:nvPr/>
          </p:nvSpPr>
          <p:spPr>
            <a:xfrm>
              <a:off x="4191120" y="1951200"/>
              <a:ext cx="4241520" cy="447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true, fa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4360" y="1952640"/>
              <a:ext cx="1708200" cy="4460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1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4720" y="1952640"/>
              <a:ext cx="1709640" cy="44604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Times New Roman"/>
                </a:rPr>
                <a:t>B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74720" y="1241280"/>
            <a:ext cx="7657920" cy="711360"/>
            <a:chOff x="774720" y="1241280"/>
            <a:chExt cx="7657920" cy="711360"/>
          </a:xfrm>
        </p:grpSpPr>
        <p:sp>
          <p:nvSpPr>
            <p:cNvPr id="144" name=""/>
            <p:cNvSpPr/>
            <p:nvPr/>
          </p:nvSpPr>
          <p:spPr>
            <a:xfrm>
              <a:off x="4191120" y="1241280"/>
              <a:ext cx="4241520" cy="70812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Arial"/>
                </a:rPr>
                <a:t>Werteberei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84360" y="1241280"/>
              <a:ext cx="1708200" cy="7113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Arial"/>
                </a:rPr>
                <a:t>Größ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4720" y="1241280"/>
              <a:ext cx="1709640" cy="71136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3300"/>
                  </a:solidFill>
                  <a:latin typeface="Arial"/>
                </a:rPr>
                <a:t>       </a:t>
              </a:r>
              <a:r>
                <a:rPr b="1" lang="de-DE" sz="1800" spc="-1" strike="noStrike">
                  <a:solidFill>
                    <a:srgbClr val="003300"/>
                  </a:solidFill>
                  <a:latin typeface="Arial"/>
                </a:rPr>
                <a:t>Ty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880" y="939960"/>
            <a:ext cx="1447920" cy="35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nty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AF05-310E-4351-91AF-EC087A42A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5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650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10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7" nodeType="afterEffect" fill="hold" presetClass="entr" presetID="4" presetSubtype="3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0880" y="1295280"/>
            <a:ext cx="8153640" cy="4343400"/>
          </a:xfrm>
          <a:prstGeom prst="rect">
            <a:avLst/>
          </a:prstGeom>
          <a:solidFill>
            <a:srgbClr val="8fafbe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3520" y="1447560"/>
            <a:ext cx="2386800" cy="337320"/>
            <a:chOff x="533520" y="1447560"/>
            <a:chExt cx="2386800" cy="337320"/>
          </a:xfrm>
        </p:grpSpPr>
        <p:sp>
          <p:nvSpPr>
            <p:cNvPr id="150" name=""/>
            <p:cNvSpPr/>
            <p:nvPr/>
          </p:nvSpPr>
          <p:spPr>
            <a:xfrm>
              <a:off x="994680" y="1447560"/>
              <a:ext cx="192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den / Speich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571320" y="14716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33520" y="1879200"/>
            <a:ext cx="2373480" cy="337320"/>
            <a:chOff x="533520" y="1879200"/>
            <a:chExt cx="2373480" cy="337320"/>
          </a:xfrm>
        </p:grpSpPr>
        <p:sp>
          <p:nvSpPr>
            <p:cNvPr id="153" name=""/>
            <p:cNvSpPr/>
            <p:nvPr/>
          </p:nvSpPr>
          <p:spPr>
            <a:xfrm>
              <a:off x="995040" y="1879200"/>
              <a:ext cx="191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tverknüpf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571320" y="190332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33520" y="2361960"/>
            <a:ext cx="2577240" cy="337320"/>
            <a:chOff x="533520" y="2361960"/>
            <a:chExt cx="2577240" cy="337320"/>
          </a:xfrm>
        </p:grpSpPr>
        <p:sp>
          <p:nvSpPr>
            <p:cNvPr id="156" name=""/>
            <p:cNvSpPr/>
            <p:nvPr/>
          </p:nvSpPr>
          <p:spPr>
            <a:xfrm>
              <a:off x="994680" y="2361960"/>
              <a:ext cx="211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hiebeoper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571320" y="23860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33520" y="2819160"/>
            <a:ext cx="1665720" cy="337320"/>
            <a:chOff x="533520" y="2819160"/>
            <a:chExt cx="1665720" cy="337320"/>
          </a:xfrm>
        </p:grpSpPr>
        <p:sp>
          <p:nvSpPr>
            <p:cNvPr id="159" name=""/>
            <p:cNvSpPr/>
            <p:nvPr/>
          </p:nvSpPr>
          <p:spPr>
            <a:xfrm>
              <a:off x="992880" y="281916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rgleic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571320" y="28432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33520" y="3276360"/>
            <a:ext cx="3141000" cy="337320"/>
            <a:chOff x="533520" y="3276360"/>
            <a:chExt cx="3141000" cy="337320"/>
          </a:xfrm>
        </p:grpSpPr>
        <p:sp>
          <p:nvSpPr>
            <p:cNvPr id="162" name=""/>
            <p:cNvSpPr/>
            <p:nvPr/>
          </p:nvSpPr>
          <p:spPr>
            <a:xfrm>
              <a:off x="997560" y="3276360"/>
              <a:ext cx="267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ithmetische Funk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571320" y="33004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33520" y="3733560"/>
            <a:ext cx="2948760" cy="337320"/>
            <a:chOff x="533520" y="3733560"/>
            <a:chExt cx="2948760" cy="337320"/>
          </a:xfrm>
        </p:grpSpPr>
        <p:sp>
          <p:nvSpPr>
            <p:cNvPr id="165" name=""/>
            <p:cNvSpPr/>
            <p:nvPr/>
          </p:nvSpPr>
          <p:spPr>
            <a:xfrm>
              <a:off x="995760" y="3733560"/>
              <a:ext cx="24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umerische Funk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571320" y="37576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3520" y="4190760"/>
            <a:ext cx="1461240" cy="337320"/>
            <a:chOff x="533520" y="4190760"/>
            <a:chExt cx="1461240" cy="337320"/>
          </a:xfrm>
        </p:grpSpPr>
        <p:sp>
          <p:nvSpPr>
            <p:cNvPr id="168" name=""/>
            <p:cNvSpPr/>
            <p:nvPr/>
          </p:nvSpPr>
          <p:spPr>
            <a:xfrm>
              <a:off x="992520" y="419076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rü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571320" y="42148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3520" y="4647960"/>
            <a:ext cx="3128400" cy="337320"/>
            <a:chOff x="533520" y="4647960"/>
            <a:chExt cx="3128400" cy="337320"/>
          </a:xfrm>
        </p:grpSpPr>
        <p:sp>
          <p:nvSpPr>
            <p:cNvPr id="171" name=""/>
            <p:cNvSpPr/>
            <p:nvPr/>
          </p:nvSpPr>
          <p:spPr>
            <a:xfrm>
              <a:off x="997200" y="4647960"/>
              <a:ext cx="266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unktionsbausteinaufru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571320" y="46720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3520" y="5105160"/>
            <a:ext cx="3511800" cy="337320"/>
            <a:chOff x="533520" y="5105160"/>
            <a:chExt cx="3511800" cy="337320"/>
          </a:xfrm>
        </p:grpSpPr>
        <p:sp>
          <p:nvSpPr>
            <p:cNvPr id="174" name=""/>
            <p:cNvSpPr/>
            <p:nvPr/>
          </p:nvSpPr>
          <p:spPr>
            <a:xfrm>
              <a:off x="996480" y="5105160"/>
              <a:ext cx="304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konvertierungsanweis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71320" y="5129280"/>
              <a:ext cx="228600" cy="30456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9625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fügbare Anweisun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95480" y="1295280"/>
            <a:ext cx="5639040" cy="4343400"/>
            <a:chOff x="2895480" y="1295280"/>
            <a:chExt cx="5639040" cy="4343400"/>
          </a:xfrm>
        </p:grpSpPr>
        <p:sp>
          <p:nvSpPr>
            <p:cNvPr id="178" name=""/>
            <p:cNvSpPr/>
            <p:nvPr/>
          </p:nvSpPr>
          <p:spPr>
            <a:xfrm>
              <a:off x="2895480" y="1600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D, LD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, ST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C, ST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895480" y="1295280"/>
            <a:ext cx="5639040" cy="4343400"/>
            <a:chOff x="2895480" y="1295280"/>
            <a:chExt cx="5639040" cy="4343400"/>
          </a:xfrm>
        </p:grpSpPr>
        <p:sp>
          <p:nvSpPr>
            <p:cNvPr id="181" name=""/>
            <p:cNvSpPr/>
            <p:nvPr/>
          </p:nvSpPr>
          <p:spPr>
            <a:xfrm>
              <a:off x="2895480" y="20574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D, OR, XOR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DN, ORN,XOR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D(, OR(, XOR(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DN(, ORN(, XORN(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073320" y="1295280"/>
            <a:ext cx="5461200" cy="4343400"/>
            <a:chOff x="3073320" y="1295280"/>
            <a:chExt cx="5461200" cy="4343400"/>
          </a:xfrm>
        </p:grpSpPr>
        <p:sp>
          <p:nvSpPr>
            <p:cNvPr id="184" name=""/>
            <p:cNvSpPr/>
            <p:nvPr/>
          </p:nvSpPr>
          <p:spPr>
            <a:xfrm>
              <a:off x="3073320" y="2540160"/>
              <a:ext cx="127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HL, SH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ROL, R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33720" y="1295280"/>
            <a:ext cx="6400800" cy="4343400"/>
            <a:chOff x="2133720" y="1295280"/>
            <a:chExt cx="6400800" cy="4343400"/>
          </a:xfrm>
        </p:grpSpPr>
        <p:sp>
          <p:nvSpPr>
            <p:cNvPr id="187" name=""/>
            <p:cNvSpPr/>
            <p:nvPr/>
          </p:nvSpPr>
          <p:spPr>
            <a:xfrm>
              <a:off x="2133720" y="300996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T, LE, EQ, NE, GE, G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T(, LE(, EQ(, NE(, GE(, GT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606840" y="1295280"/>
            <a:ext cx="4927680" cy="4343400"/>
            <a:chOff x="3606840" y="1295280"/>
            <a:chExt cx="4927680" cy="4343400"/>
          </a:xfrm>
        </p:grpSpPr>
        <p:sp>
          <p:nvSpPr>
            <p:cNvPr id="190" name=""/>
            <p:cNvSpPr/>
            <p:nvPr/>
          </p:nvSpPr>
          <p:spPr>
            <a:xfrm>
              <a:off x="3606840" y="3454560"/>
              <a:ext cx="73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D, SUB, MUL, DIV, M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DD(, SUB(, MUL(, DIV(, MOD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441600" y="1295280"/>
            <a:ext cx="5092920" cy="4343400"/>
            <a:chOff x="3441600" y="1295280"/>
            <a:chExt cx="5092920" cy="4343400"/>
          </a:xfrm>
        </p:grpSpPr>
        <p:sp>
          <p:nvSpPr>
            <p:cNvPr id="193" name=""/>
            <p:cNvSpPr/>
            <p:nvPr/>
          </p:nvSpPr>
          <p:spPr>
            <a:xfrm>
              <a:off x="3441600" y="3898800"/>
              <a:ext cx="90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BS, NEG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N, LOG, EXP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QRT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IN, COS, TAN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SIN, ACOS, AT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968480" y="1295280"/>
            <a:ext cx="6566040" cy="4343400"/>
            <a:chOff x="1968480" y="1295280"/>
            <a:chExt cx="6566040" cy="4343400"/>
          </a:xfrm>
        </p:grpSpPr>
        <p:sp>
          <p:nvSpPr>
            <p:cNvPr id="196" name=""/>
            <p:cNvSpPr/>
            <p:nvPr/>
          </p:nvSpPr>
          <p:spPr>
            <a:xfrm>
              <a:off x="1968480" y="4368960"/>
              <a:ext cx="237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JMP, JMPC, JMPCN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JMPL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RET, RETC, RET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19440" y="1295280"/>
            <a:ext cx="4915080" cy="4343400"/>
            <a:chOff x="3619440" y="1295280"/>
            <a:chExt cx="4915080" cy="4343400"/>
          </a:xfrm>
        </p:grpSpPr>
        <p:sp>
          <p:nvSpPr>
            <p:cNvPr id="199" name=""/>
            <p:cNvSpPr/>
            <p:nvPr/>
          </p:nvSpPr>
          <p:spPr>
            <a:xfrm>
              <a:off x="3619440" y="48132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AL, CALC, CALC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000680" y="1295280"/>
            <a:ext cx="4533840" cy="4343400"/>
            <a:chOff x="4000680" y="1295280"/>
            <a:chExt cx="4533840" cy="4343400"/>
          </a:xfrm>
        </p:grpSpPr>
        <p:sp>
          <p:nvSpPr>
            <p:cNvPr id="202" name=""/>
            <p:cNvSpPr/>
            <p:nvPr/>
          </p:nvSpPr>
          <p:spPr>
            <a:xfrm>
              <a:off x="4000680" y="52833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43400" y="1295280"/>
              <a:ext cx="4191120" cy="434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xxxx_TO_yyy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für alle xxxx ungleich yyyy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icht existent: BOOL_TO_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8076-DF81-457F-B604-D09097B71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6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9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6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9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5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0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7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8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5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28195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nd–Alone-S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035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1600" y="5480280"/>
            <a:ext cx="2759400" cy="812520"/>
          </a:xfrm>
          <a:prstGeom prst="roundRect">
            <a:avLst>
              <a:gd name="adj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rbeitet immer als DDE-Serve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ingänge:  r / 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usgänge: r /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762120" y="1193760"/>
            <a:ext cx="4314600" cy="3673440"/>
            <a:chOff x="762120" y="1193760"/>
            <a:chExt cx="4314600" cy="3673440"/>
          </a:xfrm>
        </p:grpSpPr>
        <p:sp>
          <p:nvSpPr>
            <p:cNvPr id="208" name=""/>
            <p:cNvSpPr/>
            <p:nvPr/>
          </p:nvSpPr>
          <p:spPr>
            <a:xfrm>
              <a:off x="4826160" y="2886120"/>
              <a:ext cx="250560" cy="1143000"/>
            </a:xfrm>
            <a:custGeom>
              <a:avLst/>
              <a:gdLst>
                <a:gd name="textAreaLeft" fmla="*/ 12240 w 250560"/>
                <a:gd name="textAreaRight" fmla="*/ 238320 w 250560"/>
                <a:gd name="textAreaTop" fmla="*/ 12240 h 1143000"/>
                <a:gd name="textAreaBottom" fmla="*/ 1130760 h 1143000"/>
              </a:gdLst>
              <a:ahLst/>
              <a:rect l="textAreaLeft" t="textAreaTop" r="textAreaRight" b="textAreaBottom"/>
              <a:pathLst>
                <a:path w="21600" h="98424">
                  <a:moveTo>
                    <a:pt x="3600" y="0"/>
                  </a:moveTo>
                  <a:arcTo wR="3600" hR="3600" stAng="16200000" swAng="-5400000"/>
                  <a:lnTo>
                    <a:pt x="0" y="94824"/>
                  </a:lnTo>
                  <a:arcTo wR="3600" hR="3600" stAng="10800000" swAng="-5400000"/>
                  <a:lnTo>
                    <a:pt x="18000" y="984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762120" y="2670120"/>
              <a:ext cx="3200400" cy="685800"/>
              <a:chOff x="762120" y="2670120"/>
              <a:chExt cx="3200400" cy="6858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62120" y="2670120"/>
                <a:ext cx="3200400" cy="685800"/>
                <a:chOff x="762120" y="2670120"/>
                <a:chExt cx="3200400" cy="6858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62120" y="2670120"/>
                  <a:ext cx="3200400" cy="685800"/>
                </a:xfrm>
                <a:prstGeom prst="wedgeRoundRectCallout">
                  <a:avLst>
                    <a:gd name="adj1" fmla="val -40277"/>
                    <a:gd name="adj2" fmla="val 143981"/>
                    <a:gd name="adj3" fmla="val 16667"/>
                  </a:avLst>
                </a:prstGeom>
                <a:solidFill>
                  <a:srgbClr val="8fa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2120" y="2898720"/>
                  <a:ext cx="3200400" cy="457200"/>
                </a:xfrm>
                <a:prstGeom prst="wedgeRoundRectCallout">
                  <a:avLst>
                    <a:gd name="adj1" fmla="val -597"/>
                    <a:gd name="adj2" fmla="val -353472"/>
                    <a:gd name="adj3" fmla="val 16667"/>
                  </a:avLst>
                </a:prstGeom>
                <a:solidFill>
                  <a:srgbClr val="8faf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762120" y="2746440"/>
                <a:ext cx="3200400" cy="609480"/>
              </a:xfrm>
              <a:prstGeom prst="wedgeRoundRectCallout">
                <a:avLst>
                  <a:gd name="adj1" fmla="val 79958"/>
                  <a:gd name="adj2" fmla="val 66148"/>
                  <a:gd name="adj3" fmla="val 16667"/>
                </a:avLst>
              </a:prstGeom>
              <a:solidFill>
                <a:srgbClr val="8fa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nterstützung aller WinFACT-Treib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888840" y="4022640"/>
              <a:ext cx="216000" cy="844560"/>
            </a:xfrm>
            <a:custGeom>
              <a:avLst/>
              <a:gdLst>
                <a:gd name="textAreaLeft" fmla="*/ 10440 w 216000"/>
                <a:gd name="textAreaRight" fmla="*/ 205560 w 216000"/>
                <a:gd name="textAreaTop" fmla="*/ 10440 h 844560"/>
                <a:gd name="textAreaBottom" fmla="*/ 834120 h 844560"/>
              </a:gdLst>
              <a:ahLst/>
              <a:rect l="textAreaLeft" t="textAreaTop" r="textAreaRight" b="textAreaBottom"/>
              <a:pathLst>
                <a:path w="21600" h="84351">
                  <a:moveTo>
                    <a:pt x="3600" y="0"/>
                  </a:moveTo>
                  <a:arcTo wR="3600" hR="3600" stAng="16200000" swAng="-5400000"/>
                  <a:lnTo>
                    <a:pt x="0" y="80751"/>
                  </a:lnTo>
                  <a:arcTo wR="3600" hR="3600" stAng="10800000" swAng="-5400000"/>
                  <a:lnTo>
                    <a:pt x="18000" y="843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2210760" y="1191960"/>
              <a:ext cx="333360" cy="336600"/>
            </a:xfrm>
            <a:custGeom>
              <a:avLst/>
              <a:gdLst>
                <a:gd name="textAreaLeft" fmla="*/ 16200 w 333360"/>
                <a:gd name="textAreaRight" fmla="*/ 317160 w 333360"/>
                <a:gd name="textAreaTop" fmla="*/ 16200 h 336600"/>
                <a:gd name="textAreaBottom" fmla="*/ 320400 h 336600"/>
              </a:gdLst>
              <a:ahLst/>
              <a:rect l="textAreaLeft" t="textAreaTop" r="textAreaRight" b="textAreaBottom"/>
              <a:pathLst>
                <a:path w="21600" h="21810">
                  <a:moveTo>
                    <a:pt x="3600" y="0"/>
                  </a:moveTo>
                  <a:arcTo wR="3600" hR="3600" stAng="16200000" swAng="-5400000"/>
                  <a:lnTo>
                    <a:pt x="0" y="18210"/>
                  </a:lnTo>
                  <a:arcTo wR="3600" hR="3600" stAng="10800000" swAng="-5400000"/>
                  <a:lnTo>
                    <a:pt x="18000" y="218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41400" y="507960"/>
            <a:ext cx="3187800" cy="990720"/>
            <a:chOff x="1841400" y="507960"/>
            <a:chExt cx="3187800" cy="990720"/>
          </a:xfrm>
        </p:grpSpPr>
        <p:sp>
          <p:nvSpPr>
            <p:cNvPr id="217" name=""/>
            <p:cNvSpPr/>
            <p:nvPr/>
          </p:nvSpPr>
          <p:spPr>
            <a:xfrm>
              <a:off x="1841400" y="1155600"/>
              <a:ext cx="355680" cy="34308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95480" y="507960"/>
              <a:ext cx="2133720" cy="349200"/>
            </a:xfrm>
            <a:prstGeom prst="wedgeRoundRectCallout">
              <a:avLst>
                <a:gd name="adj1" fmla="val -84226"/>
                <a:gd name="adj2" fmla="val 130907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LE for Process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565360" y="380880"/>
            <a:ext cx="4292640" cy="1105200"/>
            <a:chOff x="2565360" y="380880"/>
            <a:chExt cx="4292640" cy="1105200"/>
          </a:xfrm>
        </p:grpSpPr>
        <p:sp>
          <p:nvSpPr>
            <p:cNvPr id="220" name=""/>
            <p:cNvSpPr/>
            <p:nvPr/>
          </p:nvSpPr>
          <p:spPr>
            <a:xfrm>
              <a:off x="2565360" y="1168560"/>
              <a:ext cx="571680" cy="31752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8faf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380880"/>
              <a:ext cx="3733920" cy="533520"/>
            </a:xfrm>
            <a:prstGeom prst="wedgeRoundRectCallout">
              <a:avLst>
                <a:gd name="adj1" fmla="val -57314"/>
                <a:gd name="adj2" fmla="val 92263"/>
                <a:gd name="adj3" fmla="val 16667"/>
              </a:avLst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nbindung des Flexible Animation Bui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u Visualisierungszwec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6683-DACD-44F7-A678-744ED45116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5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3" dur="1" fill="hold"/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9625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ft-SPS unter BOR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619760" cy="574344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1600200" y="3200400"/>
            <a:ext cx="3276360" cy="838080"/>
            <a:chOff x="1600200" y="3200400"/>
            <a:chExt cx="3276360" cy="838080"/>
          </a:xfrm>
        </p:grpSpPr>
        <p:sp>
          <p:nvSpPr>
            <p:cNvPr id="225" name=""/>
            <p:cNvSpPr/>
            <p:nvPr/>
          </p:nvSpPr>
          <p:spPr>
            <a:xfrm>
              <a:off x="1752480" y="3200400"/>
              <a:ext cx="2895480" cy="320040"/>
            </a:xfrm>
            <a:prstGeom prst="wedgeRoundRectCallout">
              <a:avLst>
                <a:gd name="adj1" fmla="val -78726"/>
                <a:gd name="adj2" fmla="val 367273"/>
                <a:gd name="adj3" fmla="val 16667"/>
              </a:avLst>
            </a:prstGeom>
            <a:solidFill>
              <a:srgbClr val="8fa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76160" y="3270240"/>
              <a:ext cx="2895840" cy="249840"/>
            </a:xfrm>
            <a:prstGeom prst="wedgeRoundRectCallout">
              <a:avLst>
                <a:gd name="adj1" fmla="val -76537"/>
                <a:gd name="adj2" fmla="val 846513"/>
                <a:gd name="adj3" fmla="val 16667"/>
              </a:avLst>
            </a:prstGeom>
            <a:solidFill>
              <a:srgbClr val="8fa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200" y="3200400"/>
              <a:ext cx="3276360" cy="838080"/>
            </a:xfrm>
            <a:prstGeom prst="wedgeRoundRectCallout">
              <a:avLst>
                <a:gd name="adj1" fmla="val -29652"/>
                <a:gd name="adj2" fmla="val 49652"/>
                <a:gd name="adj3" fmla="val 16667"/>
              </a:avLst>
            </a:prstGeom>
            <a:solidFill>
              <a:srgbClr val="8faf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ährend eines Debugvorgangs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- Haltepunk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aktuelle Ausführungsze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555720" y="380160"/>
            <a:ext cx="1905840" cy="576360"/>
          </a:xfrm>
          <a:prstGeom prst="roundRect">
            <a:avLst>
              <a:gd name="adj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s sind beliebig vie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PS Blöcke mög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2480" y="380160"/>
            <a:ext cx="3219480" cy="576360"/>
          </a:xfrm>
          <a:prstGeom prst="roundRect">
            <a:avLst>
              <a:gd name="adj" fmla="val 16667"/>
            </a:avLst>
          </a:prstGeom>
          <a:solidFill>
            <a:srgbClr val="8faf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DE, OPC, FAB und Hardwaretre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urch entsprechende Blöc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A328-F409-4619-94F9-27E773DEAF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600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delay="500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3" dur="1" fill="hold"/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6934320" cy="56991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dien- und Anzeigeelemente (Auswah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6C1A6-D582-4ED3-A4B8-2B6FEFD4C5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971440" y="228600"/>
            <a:ext cx="2971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usammenfass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04920" y="762120"/>
            <a:ext cx="8458200" cy="5105160"/>
            <a:chOff x="304920" y="762120"/>
            <a:chExt cx="8458200" cy="5105160"/>
          </a:xfrm>
        </p:grpSpPr>
        <p:grpSp>
          <p:nvGrpSpPr>
            <p:cNvPr id="234" name=""/>
            <p:cNvGrpSpPr/>
            <p:nvPr/>
          </p:nvGrpSpPr>
          <p:grpSpPr>
            <a:xfrm>
              <a:off x="304920" y="1219320"/>
              <a:ext cx="3124080" cy="4647960"/>
              <a:chOff x="304920" y="1219320"/>
              <a:chExt cx="3124080" cy="46479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304920" y="1219320"/>
                <a:ext cx="3124080" cy="4647960"/>
                <a:chOff x="304920" y="1219320"/>
                <a:chExt cx="3124080" cy="46479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304920" y="1219320"/>
                  <a:ext cx="3124080" cy="4647960"/>
                </a:xfrm>
                <a:prstGeom prst="rect">
                  <a:avLst/>
                </a:prstGeom>
                <a:solidFill>
                  <a:srgbClr val="8fafbe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04920" y="1752480"/>
                  <a:ext cx="3124080" cy="54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Stand-Alon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61400" y="2592360"/>
                <a:ext cx="204444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ösung primä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teuerungstechnisch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ble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1040" y="3780720"/>
                <a:ext cx="141336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ur eine S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stanz möglic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8520" y="4623480"/>
                <a:ext cx="194400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ignalkonditionieru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 der S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5400000">
                <a:off x="495000" y="2603520"/>
                <a:ext cx="152280" cy="15228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5400000">
                <a:off x="507240" y="3809880"/>
                <a:ext cx="152640" cy="15228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5400000">
                <a:off x="507600" y="4648320"/>
                <a:ext cx="152280" cy="15228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638680" y="1219320"/>
              <a:ext cx="3124440" cy="4647960"/>
              <a:chOff x="5638680" y="1219320"/>
              <a:chExt cx="3124440" cy="4647960"/>
            </a:xfrm>
          </p:grpSpPr>
          <p:sp>
            <p:nvSpPr>
              <p:cNvPr id="245" name=""/>
              <p:cNvSpPr/>
              <p:nvPr/>
            </p:nvSpPr>
            <p:spPr>
              <a:xfrm>
                <a:off x="5638680" y="1219320"/>
                <a:ext cx="3124440" cy="4647960"/>
              </a:xfrm>
              <a:prstGeom prst="rect">
                <a:avLst/>
              </a:prstGeom>
              <a:solidFill>
                <a:srgbClr val="8fafbe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38680" y="1752480"/>
                <a:ext cx="3124440" cy="540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BORIS-Bloc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173280" y="2592360"/>
                <a:ext cx="224568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Lösung  steuerungs -u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egelungstechnisch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blem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172920" y="4611600"/>
                <a:ext cx="233532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ignalkonditionieru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ahlweise in der SP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der durch BORIS-Blöck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5400000">
                <a:off x="5867280" y="2590560"/>
                <a:ext cx="152280" cy="15264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71840" y="3785040"/>
                <a:ext cx="1896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hrere SPS-Blöck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5400000">
                <a:off x="5867280" y="3809880"/>
                <a:ext cx="152640" cy="15264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400000">
                <a:off x="5867280" y="4647960"/>
                <a:ext cx="152280" cy="152640"/>
              </a:xfrm>
              <a:prstGeom prst="triangle">
                <a:avLst>
                  <a:gd name="adj" fmla="val 55171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327480" y="2666880"/>
              <a:ext cx="2438280" cy="2514600"/>
              <a:chOff x="3327480" y="2666880"/>
              <a:chExt cx="2438280" cy="25146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3327480" y="2666880"/>
                <a:ext cx="2438280" cy="2514600"/>
                <a:chOff x="3327480" y="2666880"/>
                <a:chExt cx="2438280" cy="25146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327480" y="2666880"/>
                  <a:ext cx="2438280" cy="2514600"/>
                </a:xfrm>
                <a:prstGeom prst="rect">
                  <a:avLst/>
                </a:prstGeom>
                <a:solidFill>
                  <a:srgbClr val="8fafbe"/>
                </a:solidFill>
                <a:ln w="0">
                  <a:noFill/>
                </a:ln>
                <a:effectLst>
                  <a:outerShdw dist="17819" dir="2700000" blurRad="0" rotWithShape="0">
                    <a:srgbClr val="55687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327480" y="2933640"/>
                  <a:ext cx="2438280" cy="36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000000"/>
                      </a:solidFill>
                      <a:latin typeface="Arial"/>
                    </a:rPr>
                    <a:t>Gemeinsame Fähigkeiten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3606840" y="3467160"/>
                <a:ext cx="732960" cy="243720"/>
                <a:chOff x="3606840" y="3467160"/>
                <a:chExt cx="732960" cy="2437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910680" y="3467160"/>
                  <a:ext cx="429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D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5400000">
                  <a:off x="3606840" y="3492000"/>
                  <a:ext cx="152640" cy="152640"/>
                </a:xfrm>
                <a:prstGeom prst="triangle">
                  <a:avLst>
                    <a:gd name="adj" fmla="val 55171"/>
                  </a:avLst>
                </a:prstGeom>
                <a:solidFill>
                  <a:srgbClr val="ffcc00"/>
                </a:solidFill>
                <a:ln w="0">
                  <a:noFill/>
                </a:ln>
                <a:effectLst>
                  <a:outerShdw dist="17819" dir="2700000" blurRad="0" rotWithShape="0">
                    <a:srgbClr val="9879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619440" y="3848400"/>
                <a:ext cx="744480" cy="243720"/>
                <a:chOff x="3619440" y="3848400"/>
                <a:chExt cx="744480" cy="2437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924360" y="3848400"/>
                  <a:ext cx="439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OP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5400000">
                  <a:off x="3619440" y="3873240"/>
                  <a:ext cx="152640" cy="152640"/>
                </a:xfrm>
                <a:prstGeom prst="triangle">
                  <a:avLst>
                    <a:gd name="adj" fmla="val 55171"/>
                  </a:avLst>
                </a:prstGeom>
                <a:solidFill>
                  <a:srgbClr val="ffcc00"/>
                </a:solidFill>
                <a:ln w="0">
                  <a:noFill/>
                </a:ln>
                <a:effectLst>
                  <a:outerShdw dist="17819" dir="2700000" blurRad="0" rotWithShape="0">
                    <a:srgbClr val="9879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632040" y="4241880"/>
                <a:ext cx="699480" cy="243720"/>
                <a:chOff x="3632040" y="4241880"/>
                <a:chExt cx="699480" cy="2437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936240" y="4241880"/>
                  <a:ext cx="3952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FA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5400000">
                  <a:off x="3632040" y="4266720"/>
                  <a:ext cx="152640" cy="152640"/>
                </a:xfrm>
                <a:prstGeom prst="triangle">
                  <a:avLst>
                    <a:gd name="adj" fmla="val 55171"/>
                  </a:avLst>
                </a:prstGeom>
                <a:solidFill>
                  <a:srgbClr val="ffcc00"/>
                </a:solidFill>
                <a:ln w="0">
                  <a:noFill/>
                </a:ln>
                <a:effectLst>
                  <a:outerShdw dist="17819" dir="2700000" blurRad="0" rotWithShape="0">
                    <a:srgbClr val="9879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3632040" y="4648320"/>
                <a:ext cx="1894680" cy="243720"/>
                <a:chOff x="3632040" y="4648320"/>
                <a:chExt cx="1894680" cy="2437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936600" y="4648320"/>
                  <a:ext cx="15901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Treiberanbindun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rot="5400000">
                  <a:off x="3632040" y="4673160"/>
                  <a:ext cx="152640" cy="152640"/>
                </a:xfrm>
                <a:prstGeom prst="triangle">
                  <a:avLst>
                    <a:gd name="adj" fmla="val 55171"/>
                  </a:avLst>
                </a:prstGeom>
                <a:solidFill>
                  <a:srgbClr val="ffcc00"/>
                </a:solidFill>
                <a:ln w="0">
                  <a:noFill/>
                </a:ln>
                <a:effectLst>
                  <a:outerShdw dist="17819" dir="2700000" blurRad="0" rotWithShape="0">
                    <a:srgbClr val="9879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9" name=""/>
            <p:cNvSpPr/>
            <p:nvPr/>
          </p:nvSpPr>
          <p:spPr>
            <a:xfrm>
              <a:off x="2806560" y="762120"/>
              <a:ext cx="3505320" cy="609480"/>
            </a:xfrm>
            <a:prstGeom prst="rect">
              <a:avLst/>
            </a:prstGeom>
            <a:solidFill>
              <a:srgbClr val="8fafb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Soft-S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3D3E-7306-4C69-AEE9-3259322BD6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9T16:10:17Z</dcterms:created>
  <dc:creator>Kahlert</dc:creator>
  <dc:description/>
  <dc:language>en-US</dc:language>
  <cp:lastModifiedBy>Dietlind Auerbach</cp:lastModifiedBy>
  <dcterms:modified xsi:type="dcterms:W3CDTF">2004-08-09T08:03:22Z</dcterms:modified>
  <cp:revision>191</cp:revision>
  <dc:subject/>
  <dc:title>Kein Folientitel</dc:title>
</cp:coreProperties>
</file>